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87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75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956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87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75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9680" y="158760"/>
            <a:ext cx="842004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0" y="6350040"/>
            <a:ext cx="21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4E2F-5A6B-4516-BE6C-12094AB37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4560" y="1228680"/>
            <a:ext cx="56340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2568600" y="3497400"/>
          <a:ext cx="4822920" cy="1092240"/>
        </p:xfrm>
        <a:graphic>
          <a:graphicData uri="http://schemas.openxmlformats.org/drawingml/2006/table">
            <a:tbl>
              <a:tblPr/>
              <a:tblGrid>
                <a:gridCol w="1333440"/>
                <a:gridCol w="3489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Arn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12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-MAN-LAL-5600-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1544760" y="58532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RGO - European Gravitational Observa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Traversa H di Via Macerata - Santo Stefano a Macerata, -56021 Cascina, Itali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ariat: Telephone (+39) 050 752 521  FAX (+39) 050 752 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4481640"/>
            <a:ext cx="18288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2680" y="5253120"/>
            <a:ext cx="2219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the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2200" y="391968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7386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96080" y="4368960"/>
            <a:ext cx="6951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4000" y="3900600"/>
            <a:ext cx="1219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29080" y="483876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1680" y="4157640"/>
            <a:ext cx="324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4624560"/>
            <a:ext cx="97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4040" y="3686040"/>
            <a:ext cx="2004840" cy="15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21200" y="4500720"/>
            <a:ext cx="58896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5445000"/>
            <a:ext cx="1743120" cy="519120"/>
          </a:xfrm>
          <a:prstGeom prst="wedgeRoundRectCallout">
            <a:avLst>
              <a:gd name="adj1" fmla="val -15208"/>
              <a:gd name="adj2" fmla="val -98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diagram        on Wai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834080"/>
            <a:ext cx="10288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6134040" y="54482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174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9" idx="3"/>
            <a:endCxn id="179" idx="2"/>
          </p:cNvCxnSpPr>
          <p:nvPr/>
        </p:nvCxnSpPr>
        <p:spPr>
          <a:xfrm flipH="1">
            <a:off x="3561840" y="4614840"/>
            <a:ext cx="915120" cy="133560"/>
          </a:xfrm>
          <a:prstGeom prst="curvedConnector5">
            <a:avLst>
              <a:gd name="adj1" fmla="val -60920"/>
              <a:gd name="adj2" fmla="val 178918"/>
              <a:gd name="adj3" fmla="val -6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4" idx="3"/>
            <a:endCxn id="209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93760" y="4465800"/>
            <a:ext cx="45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ration on sending partial message blocks will be performed at each subsequent call to either CmMessageWait or CmMessageChe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when the send is completed, an optional handler will be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2960" y="48895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2120" y="1027080"/>
            <a:ext cx="24386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19480" y="1874880"/>
            <a:ext cx="2923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“GetAddress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1280" y="2598840"/>
            <a:ext cx="4000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NSGetAddress message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1840" y="3351240"/>
            <a:ext cx="24192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with timeout (10 seco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5640" y="503856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9280" y="5504040"/>
            <a:ext cx="252432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81440" y="1284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81440" y="213192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1440" y="285588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81440" y="360828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0120" y="115092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3640" y="87948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35440" y="50385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49400" y="3444840"/>
            <a:ext cx="1355760" cy="523800"/>
          </a:xfrm>
          <a:custGeom>
            <a:avLst/>
            <a:gdLst/>
            <a:ahLst/>
            <a:rect l="l" t="t" r="r" b="b"/>
            <a:pathLst>
              <a:path w="2135" h="826">
                <a:moveTo>
                  <a:pt x="2075" y="258"/>
                </a:moveTo>
                <a:cubicBezTo>
                  <a:pt x="2086" y="388"/>
                  <a:pt x="2135" y="513"/>
                  <a:pt x="2060" y="603"/>
                </a:cubicBezTo>
                <a:cubicBezTo>
                  <a:pt x="1985" y="693"/>
                  <a:pt x="1915" y="770"/>
                  <a:pt x="1625" y="798"/>
                </a:cubicBezTo>
                <a:cubicBezTo>
                  <a:pt x="1335" y="826"/>
                  <a:pt x="588" y="820"/>
                  <a:pt x="320" y="768"/>
                </a:cubicBezTo>
                <a:cubicBezTo>
                  <a:pt x="52" y="716"/>
                  <a:pt x="40" y="598"/>
                  <a:pt x="20" y="483"/>
                </a:cubicBezTo>
                <a:cubicBezTo>
                  <a:pt x="0" y="368"/>
                  <a:pt x="40" y="156"/>
                  <a:pt x="200" y="78"/>
                </a:cubicBezTo>
                <a:cubicBezTo>
                  <a:pt x="360" y="0"/>
                  <a:pt x="818" y="30"/>
                  <a:pt x="98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34080" y="2031840"/>
            <a:ext cx="2290680" cy="282600"/>
          </a:xfrm>
          <a:prstGeom prst="wedgeRoundRectCallout">
            <a:avLst>
              <a:gd name="adj1" fmla="val -55476"/>
              <a:gd name="adj2" fmla="val 188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nternal Cm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72040" y="2708280"/>
            <a:ext cx="3224520" cy="501480"/>
          </a:xfrm>
          <a:prstGeom prst="wedgeRoundRectCallout">
            <a:avLst>
              <a:gd name="adj1" fmla="val -83333"/>
              <a:gd name="adj2" fmla="val 996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the CmNameServerTimeout intern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57800" y="3546360"/>
            <a:ext cx="2795760" cy="23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Address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865680"/>
            <a:ext cx="1143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96120" y="4579920"/>
            <a:ext cx="2390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mConnect object, initialized with the inf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65880"/>
            <a:ext cx="21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1320" y="412272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91320" y="5084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81120" y="4065480"/>
            <a:ext cx="67644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724960" y="60451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73920" y="1930320"/>
            <a:ext cx="241560" cy="25416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25">
                <a:moveTo>
                  <a:pt x="0" y="0"/>
                </a:moveTo>
                <a:lnTo>
                  <a:pt x="21600" y="0"/>
                </a:lnTo>
                <a:lnTo>
                  <a:pt x="21600" y="22725"/>
                </a:lnTo>
                <a:lnTo>
                  <a:pt x="0" y="22725"/>
                </a:lnTo>
                <a:close/>
              </a:path>
              <a:path fill="lightenLess" w="21600" h="22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5">
                <a:moveTo>
                  <a:pt x="21600" y="0"/>
                </a:moveTo>
                <a:lnTo>
                  <a:pt x="21600" y="22725"/>
                </a:lnTo>
                <a:lnTo>
                  <a:pt x="20200" y="21325"/>
                </a:lnTo>
                <a:lnTo>
                  <a:pt x="20200" y="1400"/>
                </a:lnTo>
                <a:close/>
              </a:path>
              <a:path fill="darkenLess" w="21600" h="22725">
                <a:moveTo>
                  <a:pt x="21600" y="22725"/>
                </a:moveTo>
                <a:lnTo>
                  <a:pt x="0" y="22725"/>
                </a:lnTo>
                <a:lnTo>
                  <a:pt x="1400" y="21325"/>
                </a:lnTo>
                <a:lnTo>
                  <a:pt x="20200" y="21325"/>
                </a:lnTo>
                <a:close/>
              </a:path>
              <a:path fill="lighten" w="21600" h="22725">
                <a:moveTo>
                  <a:pt x="0" y="22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5"/>
                </a:lnTo>
                <a:close/>
              </a:path>
              <a:path fill="darkenLess" w="21600" h="22725">
                <a:moveTo>
                  <a:pt x="5273" y="4548"/>
                </a:moveTo>
                <a:lnTo>
                  <a:pt x="12271" y="4548"/>
                </a:lnTo>
                <a:lnTo>
                  <a:pt x="16327" y="8046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5">
                <a:moveTo>
                  <a:pt x="12271" y="4548"/>
                </a:moveTo>
                <a:lnTo>
                  <a:pt x="16327" y="8046"/>
                </a:lnTo>
                <a:lnTo>
                  <a:pt x="12271" y="80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143820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08960" y="45464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760" y="4287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3"/>
            <a:endCxn id="231" idx="0"/>
          </p:cNvCxnSpPr>
          <p:nvPr/>
        </p:nvCxnSpPr>
        <p:spPr>
          <a:xfrm>
            <a:off x="2138400" y="566280"/>
            <a:ext cx="1643760" cy="46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2489040" y="3543480"/>
            <a:ext cx="241560" cy="2538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693">
                <a:moveTo>
                  <a:pt x="0" y="0"/>
                </a:moveTo>
                <a:lnTo>
                  <a:pt x="21600" y="0"/>
                </a:lnTo>
                <a:lnTo>
                  <a:pt x="21600" y="22693"/>
                </a:lnTo>
                <a:lnTo>
                  <a:pt x="0" y="22693"/>
                </a:lnTo>
                <a:close/>
              </a:path>
              <a:path fill="lightenLess" w="21600" h="22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3">
                <a:moveTo>
                  <a:pt x="21600" y="0"/>
                </a:moveTo>
                <a:lnTo>
                  <a:pt x="21600" y="22693"/>
                </a:lnTo>
                <a:lnTo>
                  <a:pt x="20200" y="21293"/>
                </a:lnTo>
                <a:lnTo>
                  <a:pt x="20200" y="1400"/>
                </a:lnTo>
                <a:close/>
              </a:path>
              <a:path fill="darkenLess" w="21600" h="22693">
                <a:moveTo>
                  <a:pt x="21600" y="22693"/>
                </a:moveTo>
                <a:lnTo>
                  <a:pt x="0" y="22693"/>
                </a:lnTo>
                <a:lnTo>
                  <a:pt x="1400" y="21293"/>
                </a:lnTo>
                <a:lnTo>
                  <a:pt x="20200" y="21293"/>
                </a:lnTo>
                <a:close/>
              </a:path>
              <a:path fill="lighten" w="21600" h="22693">
                <a:moveTo>
                  <a:pt x="0" y="22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3"/>
                </a:lnTo>
                <a:close/>
              </a:path>
              <a:path fill="darkenLess" w="21600" h="22693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3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6880" y="149688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239544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36760" y="419256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a reception handler for decoding Cm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36760" y="509112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local infos to the newly connected remot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3" idx="2"/>
            <a:endCxn id="264" idx="0"/>
          </p:cNvCxnSpPr>
          <p:nvPr/>
        </p:nvCxnSpPr>
        <p:spPr>
          <a:xfrm>
            <a:off x="4425480" y="178128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2"/>
            <a:endCxn id="269" idx="0"/>
          </p:cNvCxnSpPr>
          <p:nvPr/>
        </p:nvCxnSpPr>
        <p:spPr>
          <a:xfrm>
            <a:off x="4425480" y="267984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4425480" y="4476240"/>
            <a:ext cx="10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861240" y="4260960"/>
            <a:ext cx="2406600" cy="477720"/>
          </a:xfrm>
          <a:prstGeom prst="wedgeRoundRectCallout">
            <a:avLst>
              <a:gd name="adj1" fmla="val -69393"/>
              <a:gd name="adj2" fmla="val 156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CmServerInfo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547120" y="458460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0000" y="758880"/>
            <a:ext cx="181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3" idx="0"/>
          </p:cNvCxnSpPr>
          <p:nvPr/>
        </p:nvCxnSpPr>
        <p:spPr>
          <a:xfrm>
            <a:off x="2087280" y="1079280"/>
            <a:ext cx="2338920" cy="41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206880" y="329400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I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2"/>
            <a:endCxn id="265" idx="0"/>
          </p:cNvCxnSpPr>
          <p:nvPr/>
        </p:nvCxnSpPr>
        <p:spPr>
          <a:xfrm>
            <a:off x="4425480" y="357840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1720" y="13064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2"/>
            <a:endCxn id="280" idx="0"/>
          </p:cNvCxnSpPr>
          <p:nvPr/>
        </p:nvCxnSpPr>
        <p:spPr>
          <a:xfrm>
            <a:off x="3841560" y="1590840"/>
            <a:ext cx="1332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70000" y="7588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3"/>
            <a:endCxn id="278" idx="0"/>
          </p:cNvCxnSpPr>
          <p:nvPr/>
        </p:nvCxnSpPr>
        <p:spPr>
          <a:xfrm>
            <a:off x="2087280" y="896760"/>
            <a:ext cx="175500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6720" y="1916280"/>
            <a:ext cx="6375600" cy="43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op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6560" y="22464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33680" y="30751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08440" y="39038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43280" y="4732200"/>
            <a:ext cx="3377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3" idx="2"/>
            <a:endCxn id="284" idx="0"/>
          </p:cNvCxnSpPr>
          <p:nvPr/>
        </p:nvCxnSpPr>
        <p:spPr>
          <a:xfrm>
            <a:off x="3631680" y="253008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4" idx="2"/>
            <a:endCxn id="285" idx="0"/>
          </p:cNvCxnSpPr>
          <p:nvPr/>
        </p:nvCxnSpPr>
        <p:spPr>
          <a:xfrm>
            <a:off x="3631680" y="335880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2"/>
            <a:endCxn id="286" idx="0"/>
          </p:cNvCxnSpPr>
          <p:nvPr/>
        </p:nvCxnSpPr>
        <p:spPr>
          <a:xfrm>
            <a:off x="3631680" y="418788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6" idx="2"/>
            <a:endCxn id="287" idx="0"/>
          </p:cNvCxnSpPr>
          <p:nvPr/>
        </p:nvCxnSpPr>
        <p:spPr>
          <a:xfrm>
            <a:off x="3631680" y="50166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5000" y="5295960"/>
            <a:ext cx="38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9160" y="49878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1840" y="12812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0"/>
          </p:cNvCxnSpPr>
          <p:nvPr/>
        </p:nvCxnSpPr>
        <p:spPr>
          <a:xfrm>
            <a:off x="3631680" y="156492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2806560" y="21366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33680" y="29923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08440" y="3848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3240" y="4703760"/>
            <a:ext cx="3657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non-bloc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3" idx="2"/>
            <a:endCxn id="304" idx="0"/>
          </p:cNvCxnSpPr>
          <p:nvPr/>
        </p:nvCxnSpPr>
        <p:spPr>
          <a:xfrm>
            <a:off x="3631680" y="242064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  <a:endCxn id="305" idx="0"/>
          </p:cNvCxnSpPr>
          <p:nvPr/>
        </p:nvCxnSpPr>
        <p:spPr>
          <a:xfrm>
            <a:off x="3631680" y="32763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5" idx="2"/>
            <a:endCxn id="306" idx="0"/>
          </p:cNvCxnSpPr>
          <p:nvPr/>
        </p:nvCxnSpPr>
        <p:spPr>
          <a:xfrm>
            <a:off x="3631680" y="413208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6" idx="2"/>
            <a:endCxn id="307" idx="0"/>
          </p:cNvCxnSpPr>
          <p:nvPr/>
        </p:nvCxnSpPr>
        <p:spPr>
          <a:xfrm>
            <a:off x="3631680" y="498780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93600" y="143352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3600" y="524340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6760" y="749160"/>
            <a:ext cx="3251160" cy="1663920"/>
          </a:xfrm>
          <a:prstGeom prst="leftArrowCallout">
            <a:avLst>
              <a:gd name="adj1" fmla="val 9056"/>
              <a:gd name="adj2" fmla="val 15579"/>
              <a:gd name="adj3" fmla="val 28458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68640" y="798480"/>
            <a:ext cx="1739520" cy="282600"/>
            <a:chOff x="3968640" y="798480"/>
            <a:chExt cx="1739520" cy="282600"/>
          </a:xfrm>
        </p:grpSpPr>
        <p:sp>
          <p:nvSpPr>
            <p:cNvPr id="322" name=""/>
            <p:cNvSpPr/>
            <p:nvPr/>
          </p:nvSpPr>
          <p:spPr>
            <a:xfrm>
              <a:off x="3968640" y="79848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 sw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23240" y="804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8640" y="1117440"/>
            <a:ext cx="1739520" cy="279720"/>
            <a:chOff x="3968640" y="1117440"/>
            <a:chExt cx="1739520" cy="279720"/>
          </a:xfrm>
        </p:grpSpPr>
        <p:sp>
          <p:nvSpPr>
            <p:cNvPr id="325" name=""/>
            <p:cNvSpPr/>
            <p:nvPr/>
          </p:nvSpPr>
          <p:spPr>
            <a:xfrm>
              <a:off x="3968640" y="111744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3240" y="112068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56040" y="1436760"/>
            <a:ext cx="1739520" cy="279360"/>
            <a:chOff x="3956040" y="1436760"/>
            <a:chExt cx="1739520" cy="279360"/>
          </a:xfrm>
        </p:grpSpPr>
        <p:sp>
          <p:nvSpPr>
            <p:cNvPr id="328" name=""/>
            <p:cNvSpPr/>
            <p:nvPr/>
          </p:nvSpPr>
          <p:spPr>
            <a:xfrm>
              <a:off x="3956040" y="143676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 By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10640" y="143964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6040" y="1755720"/>
            <a:ext cx="1739520" cy="279360"/>
            <a:chOff x="3956040" y="1755720"/>
            <a:chExt cx="1739520" cy="279360"/>
          </a:xfrm>
        </p:grpSpPr>
        <p:sp>
          <p:nvSpPr>
            <p:cNvPr id="331" name=""/>
            <p:cNvSpPr/>
            <p:nvPr/>
          </p:nvSpPr>
          <p:spPr>
            <a:xfrm>
              <a:off x="3956040" y="17557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to 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10640" y="1758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6040" y="2075040"/>
            <a:ext cx="1739880" cy="279360"/>
            <a:chOff x="3956040" y="2075040"/>
            <a:chExt cx="1739880" cy="279360"/>
          </a:xfrm>
        </p:grpSpPr>
        <p:sp>
          <p:nvSpPr>
            <p:cNvPr id="334" name=""/>
            <p:cNvSpPr/>
            <p:nvPr/>
          </p:nvSpPr>
          <p:spPr>
            <a:xfrm>
              <a:off x="3956040" y="2075040"/>
              <a:ext cx="1249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10280" y="20779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6480" y="2800440"/>
            <a:ext cx="2153520" cy="1523520"/>
            <a:chOff x="456480" y="2800440"/>
            <a:chExt cx="2153520" cy="1523520"/>
          </a:xfrm>
        </p:grpSpPr>
        <p:sp>
          <p:nvSpPr>
            <p:cNvPr id="337" name=""/>
            <p:cNvSpPr/>
            <p:nvPr/>
          </p:nvSpPr>
          <p:spPr>
            <a:xfrm>
              <a:off x="685800" y="2800440"/>
              <a:ext cx="19116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1200" y="290052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em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1200" y="372600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200" y="331308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"/>
            <p:cNvCxnSpPr>
              <a:stCxn id="337" idx="2"/>
              <a:endCxn id="337" idx="1"/>
            </p:cNvCxnSpPr>
            <p:nvPr/>
          </p:nvCxnSpPr>
          <p:spPr>
            <a:xfrm flipV="1" rot="16200000">
              <a:off x="839160" y="3293280"/>
              <a:ext cx="648360" cy="956520"/>
            </a:xfrm>
            <a:prstGeom prst="bentConnector4">
              <a:avLst>
                <a:gd name="adj1" fmla="val -35277"/>
                <a:gd name="adj2" fmla="val 1239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2136960" y="29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3316320"/>
              <a:ext cx="4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36760" y="5187960"/>
            <a:ext cx="3251160" cy="406440"/>
          </a:xfrm>
          <a:prstGeom prst="leftArrowCallout">
            <a:avLst>
              <a:gd name="adj1" fmla="val 21872"/>
              <a:gd name="adj2" fmla="val 46875"/>
              <a:gd name="adj3" fmla="val 114839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56040" y="5251320"/>
            <a:ext cx="1739520" cy="279720"/>
            <a:chOff x="3956040" y="5251320"/>
            <a:chExt cx="1739520" cy="279720"/>
          </a:xfrm>
        </p:grpSpPr>
        <p:sp>
          <p:nvSpPr>
            <p:cNvPr id="346" name=""/>
            <p:cNvSpPr/>
            <p:nvPr/>
          </p:nvSpPr>
          <p:spPr>
            <a:xfrm>
              <a:off x="3956040" y="52513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0640" y="525456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880240" y="1270080"/>
            <a:ext cx="622080" cy="5207040"/>
          </a:xfrm>
          <a:custGeom>
            <a:avLst/>
            <a:gdLst>
              <a:gd name="textAreaLeft" fmla="*/ 397440 w 622080"/>
              <a:gd name="textAreaRight" fmla="*/ 622440 w 622080"/>
              <a:gd name="textAreaTop" fmla="*/ 135360 h 5207040"/>
              <a:gd name="textAreaBottom" fmla="*/ 5071680 h 520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54"/>
                </a:lnTo>
                <a:cubicBezTo>
                  <a:pt x="10800" y="9953"/>
                  <a:pt x="5400" y="10852"/>
                  <a:pt x="0" y="10852"/>
                </a:cubicBezTo>
                <a:cubicBezTo>
                  <a:pt x="5400" y="10852"/>
                  <a:pt x="10800" y="11751"/>
                  <a:pt x="10800" y="1265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1"/>
            <a:endCxn id="339" idx="3"/>
          </p:cNvCxnSpPr>
          <p:nvPr/>
        </p:nvCxnSpPr>
        <p:spPr>
          <a:xfrm rot="10800000">
            <a:off x="2094840" y="3867840"/>
            <a:ext cx="3766320" cy="5760"/>
          </a:xfrm>
          <a:prstGeom prst="curvedConnector5">
            <a:avLst>
              <a:gd name="adj1" fmla="val 49737"/>
              <a:gd name="adj2" fmla="val 46666"/>
              <a:gd name="adj3" fmla="val 4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"/>
          <p:cNvGrpSpPr/>
          <p:nvPr/>
        </p:nvGrpSpPr>
        <p:grpSpPr>
          <a:xfrm>
            <a:off x="6477120" y="1262160"/>
            <a:ext cx="3238560" cy="5183280"/>
            <a:chOff x="6477120" y="1262160"/>
            <a:chExt cx="3238560" cy="5183280"/>
          </a:xfrm>
        </p:grpSpPr>
        <p:grpSp>
          <p:nvGrpSpPr>
            <p:cNvPr id="351" name=""/>
            <p:cNvGrpSpPr/>
            <p:nvPr/>
          </p:nvGrpSpPr>
          <p:grpSpPr>
            <a:xfrm>
              <a:off x="6477120" y="1262160"/>
              <a:ext cx="2927520" cy="281160"/>
              <a:chOff x="6477120" y="1262160"/>
              <a:chExt cx="2927520" cy="281160"/>
            </a:xfrm>
          </p:grpSpPr>
          <p:sp>
            <p:nvSpPr>
              <p:cNvPr id="352" name=""/>
              <p:cNvSpPr/>
              <p:nvPr/>
            </p:nvSpPr>
            <p:spPr>
              <a:xfrm>
                <a:off x="8102880" y="12621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77120" y="12668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477120" y="1692360"/>
              <a:ext cx="2927520" cy="282600"/>
              <a:chOff x="6477120" y="1692360"/>
              <a:chExt cx="2927520" cy="28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102880" y="16923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77120" y="16984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477120" y="2122560"/>
              <a:ext cx="2927520" cy="281160"/>
              <a:chOff x="6477120" y="2122560"/>
              <a:chExt cx="2927520" cy="281160"/>
            </a:xfrm>
          </p:grpSpPr>
          <p:sp>
            <p:nvSpPr>
              <p:cNvPr id="358" name=""/>
              <p:cNvSpPr/>
              <p:nvPr/>
            </p:nvSpPr>
            <p:spPr>
              <a:xfrm>
                <a:off x="8102880" y="2122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77120" y="2127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2554560"/>
              <a:ext cx="2927520" cy="281160"/>
              <a:chOff x="6477120" y="2554560"/>
              <a:chExt cx="2927520" cy="281160"/>
            </a:xfrm>
          </p:grpSpPr>
          <p:sp>
            <p:nvSpPr>
              <p:cNvPr id="361" name=""/>
              <p:cNvSpPr/>
              <p:nvPr/>
            </p:nvSpPr>
            <p:spPr>
              <a:xfrm>
                <a:off x="8102880" y="2554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 (valu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77120" y="2559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477120" y="2984760"/>
              <a:ext cx="2927520" cy="282600"/>
              <a:chOff x="6477120" y="2984760"/>
              <a:chExt cx="2927520" cy="282600"/>
            </a:xfrm>
          </p:grpSpPr>
          <p:sp>
            <p:nvSpPr>
              <p:cNvPr id="364" name=""/>
              <p:cNvSpPr/>
              <p:nvPr/>
            </p:nvSpPr>
            <p:spPr>
              <a:xfrm>
                <a:off x="8102880" y="29847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77120" y="29908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477120" y="3414960"/>
              <a:ext cx="2927520" cy="281160"/>
              <a:chOff x="6477120" y="3414960"/>
              <a:chExt cx="2927520" cy="281160"/>
            </a:xfrm>
          </p:grpSpPr>
          <p:sp>
            <p:nvSpPr>
              <p:cNvPr id="367" name=""/>
              <p:cNvSpPr/>
              <p:nvPr/>
            </p:nvSpPr>
            <p:spPr>
              <a:xfrm>
                <a:off x="8102880" y="34149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77120" y="34196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477120" y="3846600"/>
              <a:ext cx="3238560" cy="1006560"/>
              <a:chOff x="6477120" y="3846600"/>
              <a:chExt cx="3238560" cy="100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791840" y="3846600"/>
                <a:ext cx="1923840" cy="10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s * element-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77120" y="42166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77120" y="5007240"/>
              <a:ext cx="3238560" cy="824040"/>
              <a:chOff x="6477120" y="5007240"/>
              <a:chExt cx="3238560" cy="824040"/>
            </a:xfrm>
          </p:grpSpPr>
          <p:sp>
            <p:nvSpPr>
              <p:cNvPr id="373" name=""/>
              <p:cNvSpPr/>
              <p:nvPr/>
            </p:nvSpPr>
            <p:spPr>
              <a:xfrm>
                <a:off x="7791840" y="5007240"/>
                <a:ext cx="192384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tem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ngth +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77120" y="528660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477120" y="5986440"/>
              <a:ext cx="3238560" cy="459000"/>
              <a:chOff x="6477120" y="5986440"/>
              <a:chExt cx="3238560" cy="45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7791840" y="5986440"/>
                <a:ext cx="192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7120" y="60832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8" name=""/>
          <p:cNvCxnSpPr>
            <a:stCxn id="318" idx="2"/>
            <a:endCxn id="337" idx="0"/>
          </p:cNvCxnSpPr>
          <p:nvPr/>
        </p:nvCxnSpPr>
        <p:spPr>
          <a:xfrm flipH="1">
            <a:off x="1640880" y="1717560"/>
            <a:ext cx="684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7" idx="2"/>
            <a:endCxn id="319" idx="0"/>
          </p:cNvCxnSpPr>
          <p:nvPr/>
        </p:nvCxnSpPr>
        <p:spPr>
          <a:xfrm>
            <a:off x="1641240" y="4095720"/>
            <a:ext cx="684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design docu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9560" y="1680840"/>
            <a:ext cx="91360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Open(Multiple)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76280" y="1752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476280" y="204480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76280" y="23385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6280" y="26305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6280" y="292428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476280" y="32180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76280" y="35100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476280" y="38037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6280" y="4389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476280" y="46832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476280" y="49752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476280" y="556272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476280" y="40957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526896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4280" y="2473200"/>
            <a:ext cx="149040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48420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2120" y="4749840"/>
            <a:ext cx="91440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5880" y="2832120"/>
            <a:ext cx="372960" cy="1996920"/>
          </a:xfrm>
          <a:custGeom>
            <a:avLst/>
            <a:gdLst/>
            <a:ahLst/>
            <a:rect l="l" t="t" r="r" b="b"/>
            <a:pathLst>
              <a:path w="235" h="1258">
                <a:moveTo>
                  <a:pt x="235" y="1258"/>
                </a:moveTo>
                <a:cubicBezTo>
                  <a:pt x="197" y="1164"/>
                  <a:pt x="14" y="906"/>
                  <a:pt x="7" y="696"/>
                </a:cubicBezTo>
                <a:cubicBezTo>
                  <a:pt x="0" y="486"/>
                  <a:pt x="153" y="145"/>
                  <a:pt x="19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832120"/>
            <a:ext cx="208080" cy="2006640"/>
          </a:xfrm>
          <a:custGeom>
            <a:avLst/>
            <a:gdLst/>
            <a:ahLst/>
            <a:rect l="l" t="t" r="r" b="b"/>
            <a:pathLst>
              <a:path w="131" h="1264">
                <a:moveTo>
                  <a:pt x="16" y="0"/>
                </a:moveTo>
                <a:cubicBezTo>
                  <a:pt x="35" y="99"/>
                  <a:pt x="131" y="381"/>
                  <a:pt x="128" y="592"/>
                </a:cubicBezTo>
                <a:cubicBezTo>
                  <a:pt x="125" y="803"/>
                  <a:pt x="27" y="1124"/>
                  <a:pt x="0" y="1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4870440"/>
            <a:ext cx="1427040" cy="154080"/>
          </a:xfrm>
          <a:custGeom>
            <a:avLst/>
            <a:gdLst/>
            <a:ahLst/>
            <a:rect l="l" t="t" r="r" b="b"/>
            <a:pathLst>
              <a:path w="899" h="97">
                <a:moveTo>
                  <a:pt x="0" y="97"/>
                </a:moveTo>
                <a:cubicBezTo>
                  <a:pt x="63" y="82"/>
                  <a:pt x="227" y="8"/>
                  <a:pt x="377" y="4"/>
                </a:cubicBezTo>
                <a:cubicBezTo>
                  <a:pt x="527" y="0"/>
                  <a:pt x="790" y="56"/>
                  <a:pt x="89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5076720"/>
            <a:ext cx="1446120" cy="149400"/>
          </a:xfrm>
          <a:custGeom>
            <a:avLst/>
            <a:gdLst/>
            <a:ahLst/>
            <a:rect l="l" t="t" r="r" b="b"/>
            <a:pathLst>
              <a:path w="911" h="94">
                <a:moveTo>
                  <a:pt x="911" y="0"/>
                </a:moveTo>
                <a:cubicBezTo>
                  <a:pt x="828" y="15"/>
                  <a:pt x="565" y="86"/>
                  <a:pt x="413" y="90"/>
                </a:cubicBezTo>
                <a:cubicBezTo>
                  <a:pt x="261" y="94"/>
                  <a:pt x="86" y="38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57240" y="3006720"/>
            <a:ext cx="13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GetNewPort NSGe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4040" y="2971800"/>
            <a:ext cx="111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New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68880"/>
            <a:ext cx="14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5720" y="4816440"/>
            <a:ext cx="1235160" cy="10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7880" y="4740120"/>
            <a:ext cx="1206360" cy="10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1160" y="4938840"/>
            <a:ext cx="140040" cy="36360"/>
          </a:xfrm>
          <a:custGeom>
            <a:avLst/>
            <a:gdLst/>
            <a:ahLst/>
            <a:rect l="l" t="t" r="r" b="b"/>
            <a:pathLst>
              <a:path w="220" h="57">
                <a:moveTo>
                  <a:pt x="0" y="17"/>
                </a:moveTo>
                <a:cubicBezTo>
                  <a:pt x="41" y="8"/>
                  <a:pt x="83" y="0"/>
                  <a:pt x="120" y="7"/>
                </a:cubicBezTo>
                <a:cubicBezTo>
                  <a:pt x="157" y="14"/>
                  <a:pt x="203" y="49"/>
                  <a:pt x="220" y="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6800" y="4917960"/>
            <a:ext cx="177840" cy="63720"/>
          </a:xfrm>
          <a:custGeom>
            <a:avLst/>
            <a:gdLst/>
            <a:ahLst/>
            <a:rect l="l" t="t" r="r" b="b"/>
            <a:pathLst>
              <a:path w="280" h="100">
                <a:moveTo>
                  <a:pt x="0" y="100"/>
                </a:moveTo>
                <a:cubicBezTo>
                  <a:pt x="36" y="60"/>
                  <a:pt x="73" y="20"/>
                  <a:pt x="120" y="10"/>
                </a:cubicBezTo>
                <a:cubicBezTo>
                  <a:pt x="167" y="0"/>
                  <a:pt x="223" y="20"/>
                  <a:pt x="280" y="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24256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997360"/>
            <a:ext cx="2397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virgoData/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sci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*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6440" y="3787920"/>
            <a:ext cx="1845000" cy="514080"/>
          </a:xfrm>
          <a:prstGeom prst="wedgeRoundRectCallout">
            <a:avLst>
              <a:gd name="adj1" fmla="val 42944"/>
              <a:gd name="adj2" fmla="val -145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56480" y="3811680"/>
            <a:ext cx="815760" cy="466560"/>
          </a:xfrm>
          <a:prstGeom prst="wedgeRoundRectCallout">
            <a:avLst>
              <a:gd name="adj1" fmla="val -13425"/>
              <a:gd name="adj2" fmla="val -171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10360" y="3693960"/>
            <a:ext cx="1352880" cy="702000"/>
          </a:xfrm>
          <a:prstGeom prst="wedgeRoundRectCallout">
            <a:avLst>
              <a:gd name="adj1" fmla="val -78171"/>
              <a:gd name="adj2" fmla="val -111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2680" y="5276880"/>
            <a:ext cx="2143080" cy="449280"/>
          </a:xfrm>
          <a:custGeom>
            <a:avLst/>
            <a:gdLst/>
            <a:ahLst/>
            <a:rect l="l" t="t" r="r" b="b"/>
            <a:pathLst>
              <a:path w="1350" h="283">
                <a:moveTo>
                  <a:pt x="0" y="16"/>
                </a:moveTo>
                <a:cubicBezTo>
                  <a:pt x="67" y="54"/>
                  <a:pt x="247" y="209"/>
                  <a:pt x="402" y="246"/>
                </a:cubicBezTo>
                <a:cubicBezTo>
                  <a:pt x="557" y="283"/>
                  <a:pt x="772" y="281"/>
                  <a:pt x="930" y="240"/>
                </a:cubicBezTo>
                <a:cubicBezTo>
                  <a:pt x="1088" y="199"/>
                  <a:pt x="1262" y="50"/>
                  <a:pt x="13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2200" y="51274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3720" y="505152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543800" y="256536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400" y="1030320"/>
            <a:ext cx="5473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m domain provides the following constitu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NameServ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database for persistent management of application’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et of user applications communicating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59" idx="6"/>
            <a:endCxn id="73" idx="2"/>
          </p:cNvCxnSpPr>
          <p:nvPr/>
        </p:nvCxnSpPr>
        <p:spPr>
          <a:xfrm>
            <a:off x="4414320" y="2655360"/>
            <a:ext cx="1755000" cy="25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73200" y="143496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296" y="0"/>
                </a:moveTo>
                <a:cubicBezTo>
                  <a:pt x="261" y="19"/>
                  <a:pt x="137" y="59"/>
                  <a:pt x="88" y="112"/>
                </a:cubicBezTo>
                <a:cubicBezTo>
                  <a:pt x="39" y="165"/>
                  <a:pt x="0" y="248"/>
                  <a:pt x="0" y="320"/>
                </a:cubicBezTo>
                <a:cubicBezTo>
                  <a:pt x="0" y="392"/>
                  <a:pt x="9" y="480"/>
                  <a:pt x="88" y="544"/>
                </a:cubicBezTo>
                <a:cubicBezTo>
                  <a:pt x="167" y="608"/>
                  <a:pt x="259" y="671"/>
                  <a:pt x="472" y="704"/>
                </a:cubicBezTo>
                <a:cubicBezTo>
                  <a:pt x="685" y="737"/>
                  <a:pt x="1026" y="740"/>
                  <a:pt x="1368" y="7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960" y="1073160"/>
            <a:ext cx="2284560" cy="1238400"/>
          </a:xfrm>
          <a:custGeom>
            <a:avLst/>
            <a:gdLst/>
            <a:ahLst/>
            <a:rect l="l" t="t" r="r" b="b"/>
            <a:pathLst>
              <a:path w="1439" h="780">
                <a:moveTo>
                  <a:pt x="0" y="308"/>
                </a:moveTo>
                <a:cubicBezTo>
                  <a:pt x="101" y="264"/>
                  <a:pt x="431" y="88"/>
                  <a:pt x="616" y="44"/>
                </a:cubicBezTo>
                <a:cubicBezTo>
                  <a:pt x="801" y="0"/>
                  <a:pt x="988" y="20"/>
                  <a:pt x="1112" y="44"/>
                </a:cubicBezTo>
                <a:cubicBezTo>
                  <a:pt x="1236" y="68"/>
                  <a:pt x="1307" y="119"/>
                  <a:pt x="1360" y="188"/>
                </a:cubicBezTo>
                <a:cubicBezTo>
                  <a:pt x="1413" y="257"/>
                  <a:pt x="1439" y="361"/>
                  <a:pt x="1432" y="460"/>
                </a:cubicBezTo>
                <a:cubicBezTo>
                  <a:pt x="1425" y="559"/>
                  <a:pt x="1343" y="713"/>
                  <a:pt x="1320" y="78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2031840"/>
            <a:ext cx="2736720" cy="4229280"/>
          </a:xfrm>
          <a:custGeom>
            <a:avLst/>
            <a:gdLst/>
            <a:ahLst/>
            <a:rect l="l" t="t" r="r" b="b"/>
            <a:pathLst>
              <a:path w="1724" h="2664">
                <a:moveTo>
                  <a:pt x="1260" y="0"/>
                </a:moveTo>
                <a:cubicBezTo>
                  <a:pt x="1139" y="72"/>
                  <a:pt x="724" y="260"/>
                  <a:pt x="532" y="432"/>
                </a:cubicBezTo>
                <a:cubicBezTo>
                  <a:pt x="340" y="604"/>
                  <a:pt x="195" y="823"/>
                  <a:pt x="108" y="1032"/>
                </a:cubicBezTo>
                <a:cubicBezTo>
                  <a:pt x="21" y="1241"/>
                  <a:pt x="0" y="1468"/>
                  <a:pt x="12" y="1688"/>
                </a:cubicBezTo>
                <a:cubicBezTo>
                  <a:pt x="24" y="1908"/>
                  <a:pt x="76" y="2195"/>
                  <a:pt x="180" y="2352"/>
                </a:cubicBezTo>
                <a:cubicBezTo>
                  <a:pt x="284" y="2509"/>
                  <a:pt x="461" y="2600"/>
                  <a:pt x="636" y="2632"/>
                </a:cubicBezTo>
                <a:cubicBezTo>
                  <a:pt x="811" y="2664"/>
                  <a:pt x="1047" y="2625"/>
                  <a:pt x="1228" y="2544"/>
                </a:cubicBezTo>
                <a:cubicBezTo>
                  <a:pt x="1409" y="2463"/>
                  <a:pt x="1621" y="2227"/>
                  <a:pt x="1724" y="214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5716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section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escribes the Cm messages internally used by the Cm package, listed by their types, either between applications and the NameServer or betwee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1200" y="1181160"/>
            <a:ext cx="9220320" cy="1409760"/>
            <a:chOff x="241200" y="1181160"/>
            <a:chExt cx="9220320" cy="1409760"/>
          </a:xfrm>
        </p:grpSpPr>
        <p:sp>
          <p:nvSpPr>
            <p:cNvPr id="90" name=""/>
            <p:cNvSpPr/>
            <p:nvPr/>
          </p:nvSpPr>
          <p:spPr>
            <a:xfrm>
              <a:off x="241200" y="17334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ServerInf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95400" y="1474920"/>
              <a:ext cx="459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y application willing to establish a connection towards another application first sends this message to it. No answer is expected from it except for the NameServer which returns a NSPort messag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0800" y="1181160"/>
              <a:ext cx="2790720" cy="14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protocol_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host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port_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is_multi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w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200" y="2836800"/>
            <a:ext cx="8560080" cy="1189080"/>
            <a:chOff x="241200" y="2836800"/>
            <a:chExt cx="8560080" cy="1189080"/>
          </a:xfrm>
        </p:grpSpPr>
        <p:sp>
          <p:nvSpPr>
            <p:cNvPr id="94" name=""/>
            <p:cNvSpPr/>
            <p:nvPr/>
          </p:nvSpPr>
          <p:spPr>
            <a:xfrm>
              <a:off x="241200" y="327816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2836800"/>
              <a:ext cx="4593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just accepted a connection from a new application (using CmMessageOpenServer or CmMessageOpenMultipleServer). It allocates a new port number and sends it back to the application. In addition, and only for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servers, the effective application name (including the suffix </a:t>
              </a: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_&lt;n&gt;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will be sen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70800" y="2960640"/>
              <a:ext cx="213048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riginal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allocated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ew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1200" y="4270320"/>
            <a:ext cx="8724960" cy="824040"/>
            <a:chOff x="241200" y="4270320"/>
            <a:chExt cx="8724960" cy="824040"/>
          </a:xfrm>
        </p:grpSpPr>
        <p:sp>
          <p:nvSpPr>
            <p:cNvPr id="99" name=""/>
            <p:cNvSpPr/>
            <p:nvPr/>
          </p:nvSpPr>
          <p:spPr>
            <a:xfrm>
              <a:off x="241200" y="45288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Get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7200" y="4270320"/>
              <a:ext cx="459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 application just tried to bind to a port number (previously proposed by the NameServer). But this port number is not available. The application sends back this message to the NameServer so as to obtain another port numb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0800" y="4428720"/>
              <a:ext cx="229536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1200" y="5340240"/>
            <a:ext cx="8724960" cy="717840"/>
            <a:chOff x="241200" y="5340240"/>
            <a:chExt cx="8724960" cy="717840"/>
          </a:xfrm>
        </p:grpSpPr>
        <p:sp>
          <p:nvSpPr>
            <p:cNvPr id="103" name=""/>
            <p:cNvSpPr/>
            <p:nvPr/>
          </p:nvSpPr>
          <p:spPr>
            <a:xfrm>
              <a:off x="241200" y="554832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7200" y="5472000"/>
              <a:ext cx="459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sends back to the application another port number after a bind failur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0800" y="5340240"/>
              <a:ext cx="2295360" cy="71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new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515280" y="203040"/>
            <a:ext cx="228600" cy="241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1560"/>
              <a:gd name="textAreaBottom" fmla="*/ 226800 h 24156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174636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Get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3320" y="1577880"/>
            <a:ext cx="458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pplication wishes to open a new connection towards another application. It first sends this message to the NameServer, which in turn will answer using the NS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70800" y="1486080"/>
            <a:ext cx="2143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200" y="308448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9800" y="300816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Server sends this message as an answer to the NSGet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70800" y="2468520"/>
            <a:ext cx="2193840" cy="15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ho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port_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is_mult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577960" y="228600"/>
            <a:ext cx="241560" cy="2412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1632" h="21600">
                <a:moveTo>
                  <a:pt x="0" y="0"/>
                </a:moveTo>
                <a:lnTo>
                  <a:pt x="21632" y="0"/>
                </a:lnTo>
                <a:lnTo>
                  <a:pt x="21632" y="21600"/>
                </a:lnTo>
                <a:lnTo>
                  <a:pt x="0" y="21600"/>
                </a:lnTo>
                <a:close/>
              </a:path>
              <a:path fill="lightenLess" w="21632" h="21600">
                <a:moveTo>
                  <a:pt x="0" y="0"/>
                </a:moveTo>
                <a:lnTo>
                  <a:pt x="21632" y="0"/>
                </a:lnTo>
                <a:lnTo>
                  <a:pt x="20232" y="1400"/>
                </a:lnTo>
                <a:lnTo>
                  <a:pt x="1400" y="1400"/>
                </a:lnTo>
                <a:close/>
              </a:path>
              <a:path fill="darken" w="21632" h="21600">
                <a:moveTo>
                  <a:pt x="21632" y="0"/>
                </a:moveTo>
                <a:lnTo>
                  <a:pt x="21632" y="21600"/>
                </a:lnTo>
                <a:lnTo>
                  <a:pt x="20232" y="20200"/>
                </a:lnTo>
                <a:lnTo>
                  <a:pt x="20232" y="1400"/>
                </a:lnTo>
                <a:close/>
              </a:path>
              <a:path fill="darkenLess" w="21632" h="21600">
                <a:moveTo>
                  <a:pt x="21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2" y="20200"/>
                </a:lnTo>
                <a:close/>
              </a:path>
              <a:path fill="lighten" w="21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2" h="21600">
                <a:moveTo>
                  <a:pt x="3810" y="10800"/>
                </a:moveTo>
                <a:lnTo>
                  <a:pt x="17823" y="3794"/>
                </a:lnTo>
                <a:lnTo>
                  <a:pt x="178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database files are named with the application’s name and suffixed with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da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 They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ternet address and the port number allocated to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user who launched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ach database file is renamed with the suffix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bc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when the application d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38200" y="2930400"/>
            <a:ext cx="149076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8200" y="28954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21040" y="2987640"/>
            <a:ext cx="1120680" cy="130320"/>
          </a:xfrm>
          <a:custGeom>
            <a:avLst/>
            <a:gdLst/>
            <a:ahLst/>
            <a:rect l="l" t="t" r="r" b="b"/>
            <a:pathLst>
              <a:path w="706" h="82">
                <a:moveTo>
                  <a:pt x="0" y="68"/>
                </a:moveTo>
                <a:cubicBezTo>
                  <a:pt x="64" y="57"/>
                  <a:pt x="266" y="0"/>
                  <a:pt x="384" y="2"/>
                </a:cubicBezTo>
                <a:cubicBezTo>
                  <a:pt x="502" y="4"/>
                  <a:pt x="639" y="65"/>
                  <a:pt x="706" y="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392640"/>
            <a:ext cx="3591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: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/virgoData/C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ascin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*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4165560"/>
            <a:ext cx="1844640" cy="514440"/>
          </a:xfrm>
          <a:prstGeom prst="wedgeRoundRectCallout">
            <a:avLst>
              <a:gd name="adj1" fmla="val 29175"/>
              <a:gd name="adj2" fmla="val -140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4165560"/>
            <a:ext cx="816120" cy="466920"/>
          </a:xfrm>
          <a:prstGeom prst="wedgeRoundRectCallout">
            <a:avLst>
              <a:gd name="adj1" fmla="val -10310"/>
              <a:gd name="adj2" fmla="val -149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0" y="4165560"/>
            <a:ext cx="1352520" cy="701640"/>
          </a:xfrm>
          <a:prstGeom prst="wedgeRoundRectCallout">
            <a:avLst>
              <a:gd name="adj1" fmla="val -70657"/>
              <a:gd name="adj2" fmla="val -119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590920"/>
            <a:ext cx="3098520" cy="824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rt 2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st virgo.lal.in2p3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wner mans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mMessageOpen(Multiple)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8280" y="844560"/>
            <a:ext cx="21495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m initial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6080" y="1468440"/>
            <a:ext cx="3872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ax checking on the application’s 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5920" y="2063880"/>
            <a:ext cx="26542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the current 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11320" y="2687760"/>
            <a:ext cx="5883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 and its associated socket for the handing of ac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2680" y="3321000"/>
            <a:ext cx="44622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a transaction for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1000" y="3963960"/>
            <a:ext cx="32641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4597560"/>
            <a:ext cx="341460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ing for a port number from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8280" y="5221440"/>
            <a:ext cx="214956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 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56120" y="5845320"/>
            <a:ext cx="359568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 ConnectionHandler when  regis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1113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017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3590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9876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6352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2354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873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502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4640" y="660240"/>
            <a:ext cx="1673280" cy="304920"/>
          </a:xfrm>
          <a:prstGeom prst="wedgeRoundRectCallout">
            <a:avLst>
              <a:gd name="adj1" fmla="val -85296"/>
              <a:gd name="adj2" fmla="val 43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ce per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6160" y="1936800"/>
            <a:ext cx="2263680" cy="533520"/>
          </a:xfrm>
          <a:prstGeom prst="wedgeRoundRectCallout">
            <a:avLst>
              <a:gd name="adj1" fmla="val -81976"/>
              <a:gd name="adj2" fmla="val -4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 OS9 the env. variable MYHOST i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4657680"/>
            <a:ext cx="1731960" cy="453960"/>
          </a:xfrm>
          <a:custGeom>
            <a:avLst/>
            <a:gdLst/>
            <a:ahLst/>
            <a:rect l="l" t="t" r="r" b="b"/>
            <a:pathLst>
              <a:path w="2727" h="717">
                <a:moveTo>
                  <a:pt x="2605" y="357"/>
                </a:moveTo>
                <a:cubicBezTo>
                  <a:pt x="2563" y="404"/>
                  <a:pt x="2727" y="597"/>
                  <a:pt x="2350" y="642"/>
                </a:cubicBezTo>
                <a:cubicBezTo>
                  <a:pt x="1973" y="687"/>
                  <a:pt x="680" y="717"/>
                  <a:pt x="340" y="627"/>
                </a:cubicBezTo>
                <a:cubicBezTo>
                  <a:pt x="0" y="537"/>
                  <a:pt x="138" y="204"/>
                  <a:pt x="310" y="102"/>
                </a:cubicBezTo>
                <a:cubicBezTo>
                  <a:pt x="482" y="0"/>
                  <a:pt x="1153" y="31"/>
                  <a:pt x="1375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6440" y="15685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0480" y="1279440"/>
            <a:ext cx="12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1680" y="3730680"/>
            <a:ext cx="1447560" cy="434880"/>
          </a:xfrm>
          <a:prstGeom prst="wedgeRoundRectCallout">
            <a:avLst>
              <a:gd name="adj1" fmla="val -111185"/>
              <a:gd name="adj2" fmla="val 22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3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613400"/>
            <a:ext cx="2057400" cy="961920"/>
          </a:xfrm>
          <a:prstGeom prst="wedgeRoundRectCallout">
            <a:avLst>
              <a:gd name="adj1" fmla="val -80708"/>
              <a:gd name="adj2" fmla="val -38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      below on NSPort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nd diagram       on Wait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5276880"/>
            <a:ext cx="2066760" cy="501480"/>
          </a:xfrm>
          <a:prstGeom prst="wedgeRoundRectCallout">
            <a:avLst>
              <a:gd name="adj1" fmla="val 32333"/>
              <a:gd name="adj2" fmla="val -109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Retry using a NSGetNewPort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458200" y="379728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69280" y="467352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257480" y="5207040"/>
            <a:ext cx="215640" cy="241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41200"/>
              <a:gd name="textAreaBottom" fmla="*/ 227520 h 241200"/>
            </a:gdLst>
            <a:ahLst/>
            <a:rect l="textAreaLeft" t="textAreaTop" r="textAreaRight" b="textAreaBottom"/>
            <a:pathLst>
              <a:path w="21600" h="24156">
                <a:moveTo>
                  <a:pt x="0" y="0"/>
                </a:moveTo>
                <a:lnTo>
                  <a:pt x="21600" y="0"/>
                </a:lnTo>
                <a:lnTo>
                  <a:pt x="21600" y="24156"/>
                </a:lnTo>
                <a:lnTo>
                  <a:pt x="0" y="24156"/>
                </a:lnTo>
                <a:close/>
              </a:path>
              <a:path fill="lightenLess" w="21600" h="241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56">
                <a:moveTo>
                  <a:pt x="21600" y="0"/>
                </a:moveTo>
                <a:lnTo>
                  <a:pt x="21600" y="24156"/>
                </a:lnTo>
                <a:lnTo>
                  <a:pt x="20200" y="22756"/>
                </a:lnTo>
                <a:lnTo>
                  <a:pt x="20200" y="1400"/>
                </a:lnTo>
                <a:close/>
              </a:path>
              <a:path fill="darkenLess" w="21600" h="24156">
                <a:moveTo>
                  <a:pt x="21600" y="24156"/>
                </a:moveTo>
                <a:lnTo>
                  <a:pt x="0" y="24156"/>
                </a:lnTo>
                <a:lnTo>
                  <a:pt x="1400" y="22756"/>
                </a:lnTo>
                <a:lnTo>
                  <a:pt x="20200" y="22756"/>
                </a:lnTo>
                <a:close/>
              </a:path>
              <a:path fill="lighten" w="21600" h="24156">
                <a:moveTo>
                  <a:pt x="0" y="241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56"/>
                </a:lnTo>
                <a:close/>
              </a:path>
              <a:path fill="darkenLess" w="21600" h="24156">
                <a:moveTo>
                  <a:pt x="5273" y="5263"/>
                </a:moveTo>
                <a:lnTo>
                  <a:pt x="12271" y="5263"/>
                </a:lnTo>
                <a:lnTo>
                  <a:pt x="16327" y="8762"/>
                </a:lnTo>
                <a:lnTo>
                  <a:pt x="16327" y="18893"/>
                </a:lnTo>
                <a:lnTo>
                  <a:pt x="5273" y="18893"/>
                </a:lnTo>
                <a:close/>
              </a:path>
              <a:path fill="darken" w="21600" h="24156">
                <a:moveTo>
                  <a:pt x="12271" y="5263"/>
                </a:moveTo>
                <a:lnTo>
                  <a:pt x="16327" y="8762"/>
                </a:lnTo>
                <a:lnTo>
                  <a:pt x="12271" y="87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305920" y="5054760"/>
            <a:ext cx="177840" cy="20304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040"/>
              <a:gd name="textAreaBottom" fmla="*/ 191520 h 203040"/>
            </a:gdLst>
            <a:ahLst/>
            <a:rect l="textAreaLeft" t="textAreaTop" r="textAreaRight" b="textAreaBottom"/>
            <a:pathLst>
              <a:path w="21600" h="24655">
                <a:moveTo>
                  <a:pt x="0" y="0"/>
                </a:moveTo>
                <a:lnTo>
                  <a:pt x="21600" y="0"/>
                </a:lnTo>
                <a:lnTo>
                  <a:pt x="21600" y="24655"/>
                </a:lnTo>
                <a:lnTo>
                  <a:pt x="0" y="24655"/>
                </a:lnTo>
                <a:close/>
              </a:path>
              <a:path fill="lightenLess" w="21600" h="246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5">
                <a:moveTo>
                  <a:pt x="21600" y="0"/>
                </a:moveTo>
                <a:lnTo>
                  <a:pt x="21600" y="24655"/>
                </a:lnTo>
                <a:lnTo>
                  <a:pt x="20200" y="23255"/>
                </a:lnTo>
                <a:lnTo>
                  <a:pt x="20200" y="1400"/>
                </a:lnTo>
                <a:close/>
              </a:path>
              <a:path fill="darkenLess" w="21600" h="24655">
                <a:moveTo>
                  <a:pt x="21600" y="24655"/>
                </a:moveTo>
                <a:lnTo>
                  <a:pt x="0" y="24655"/>
                </a:lnTo>
                <a:lnTo>
                  <a:pt x="1400" y="23255"/>
                </a:lnTo>
                <a:lnTo>
                  <a:pt x="20200" y="23255"/>
                </a:lnTo>
                <a:close/>
              </a:path>
              <a:path fill="lighten" w="21600" h="24655">
                <a:moveTo>
                  <a:pt x="0" y="246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5"/>
                </a:lnTo>
                <a:close/>
              </a:path>
              <a:path fill="darkenLess" w="21600" h="24655">
                <a:moveTo>
                  <a:pt x="5273" y="5512"/>
                </a:moveTo>
                <a:lnTo>
                  <a:pt x="12271" y="5512"/>
                </a:lnTo>
                <a:lnTo>
                  <a:pt x="16327" y="9011"/>
                </a:lnTo>
                <a:lnTo>
                  <a:pt x="16327" y="19142"/>
                </a:lnTo>
                <a:lnTo>
                  <a:pt x="5273" y="19142"/>
                </a:lnTo>
                <a:close/>
              </a:path>
              <a:path fill="darken" w="21600" h="24655">
                <a:moveTo>
                  <a:pt x="12271" y="5512"/>
                </a:moveTo>
                <a:lnTo>
                  <a:pt x="16327" y="9011"/>
                </a:lnTo>
                <a:lnTo>
                  <a:pt x="12271" y="901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8352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27" idx="1"/>
          </p:cNvCxnSpPr>
          <p:nvPr/>
        </p:nvCxnSpPr>
        <p:spPr>
          <a:xfrm>
            <a:off x="2227320" y="972720"/>
            <a:ext cx="16516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14440" y="1616040"/>
            <a:ext cx="4077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NameServer infos from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52520" y="2473200"/>
            <a:ext cx="4200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nnection using the NameServ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18730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1990800"/>
            <a:ext cx="2330640" cy="561960"/>
          </a:xfrm>
          <a:prstGeom prst="wedgeRoundRectCallout">
            <a:avLst>
              <a:gd name="adj1" fmla="val -65259"/>
              <a:gd name="adj2" fmla="val 57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7 CmConnectNewWith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128080" y="1930320"/>
            <a:ext cx="241200" cy="29232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92320"/>
              <a:gd name="textAreaBottom" fmla="*/ 276840 h 292320"/>
            </a:gdLst>
            <a:ahLst/>
            <a:rect l="textAreaLeft" t="textAreaTop" r="textAreaRight" b="textAreaBottom"/>
            <a:pathLst>
              <a:path w="21600" h="26171">
                <a:moveTo>
                  <a:pt x="0" y="0"/>
                </a:moveTo>
                <a:lnTo>
                  <a:pt x="21600" y="0"/>
                </a:lnTo>
                <a:lnTo>
                  <a:pt x="21600" y="26171"/>
                </a:lnTo>
                <a:lnTo>
                  <a:pt x="0" y="26171"/>
                </a:lnTo>
                <a:close/>
              </a:path>
              <a:path fill="lightenLess" w="21600" h="26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1">
                <a:moveTo>
                  <a:pt x="21600" y="0"/>
                </a:moveTo>
                <a:lnTo>
                  <a:pt x="21600" y="26171"/>
                </a:lnTo>
                <a:lnTo>
                  <a:pt x="20200" y="24771"/>
                </a:lnTo>
                <a:lnTo>
                  <a:pt x="20200" y="1400"/>
                </a:lnTo>
                <a:close/>
              </a:path>
              <a:path fill="darkenLess" w="21600" h="26171">
                <a:moveTo>
                  <a:pt x="21600" y="26171"/>
                </a:moveTo>
                <a:lnTo>
                  <a:pt x="0" y="26171"/>
                </a:lnTo>
                <a:lnTo>
                  <a:pt x="1400" y="24771"/>
                </a:lnTo>
                <a:lnTo>
                  <a:pt x="20200" y="24771"/>
                </a:lnTo>
                <a:close/>
              </a:path>
              <a:path fill="lighten" w="21600" h="26171">
                <a:moveTo>
                  <a:pt x="0" y="26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1"/>
                </a:lnTo>
                <a:close/>
              </a:path>
              <a:path fill="darkenLess" w="21600" h="26171">
                <a:moveTo>
                  <a:pt x="5273" y="6271"/>
                </a:moveTo>
                <a:lnTo>
                  <a:pt x="12271" y="6271"/>
                </a:lnTo>
                <a:lnTo>
                  <a:pt x="16327" y="9769"/>
                </a:lnTo>
                <a:lnTo>
                  <a:pt x="16327" y="19901"/>
                </a:lnTo>
                <a:lnTo>
                  <a:pt x="5273" y="19901"/>
                </a:lnTo>
                <a:close/>
              </a:path>
              <a:path fill="darken" w="21600" h="26171">
                <a:moveTo>
                  <a:pt x="12271" y="6271"/>
                </a:moveTo>
                <a:lnTo>
                  <a:pt x="16327" y="9769"/>
                </a:lnTo>
                <a:lnTo>
                  <a:pt x="12271" y="97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9120" y="2527200"/>
            <a:ext cx="43149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llocated port number and new name from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8120" y="4476600"/>
            <a:ext cx="2135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960" y="1565280"/>
            <a:ext cx="2520720" cy="733320"/>
          </a:xfrm>
          <a:prstGeom prst="wedgeRoundRectCallout">
            <a:avLst>
              <a:gd name="adj1" fmla="val -68893"/>
              <a:gd name="adj2" fmla="val 104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original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t    allocated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new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77880" y="3502080"/>
            <a:ext cx="4535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port number and new name to the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6" idx="2"/>
            <a:endCxn id="170" idx="0"/>
          </p:cNvCxnSpPr>
          <p:nvPr/>
        </p:nvCxnSpPr>
        <p:spPr>
          <a:xfrm>
            <a:off x="3846240" y="2813040"/>
            <a:ext cx="108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0" idx="2"/>
            <a:endCxn id="167" idx="0"/>
          </p:cNvCxnSpPr>
          <p:nvPr/>
        </p:nvCxnSpPr>
        <p:spPr>
          <a:xfrm>
            <a:off x="3846240" y="378756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4:34:42Z</dcterms:created>
  <dc:creator>Service Informatique</dc:creator>
  <dc:description/>
  <dc:language>en-US</dc:language>
  <cp:lastModifiedBy>mabizoua</cp:lastModifiedBy>
  <cp:lastPrinted>1999-12-15T10:11:28Z</cp:lastPrinted>
  <dcterms:modified xsi:type="dcterms:W3CDTF">2004-10-27T12:40:15Z</dcterms:modified>
  <cp:revision>16</cp:revision>
  <dc:subject/>
  <dc:title>Cm design docu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lal.in2p3.fr/~arnault</vt:lpwstr>
  </property>
  <property fmtid="{D5CDD505-2E9C-101B-9397-08002B2CF9AE}" pid="9" name="LinkColor">
    <vt:r8>16711782</vt:r8>
  </property>
  <property fmtid="{D5CDD505-2E9C-101B-9397-08002B2CF9AE}" pid="10" name="MailAddress">
    <vt:lpwstr>arnault@lal.in2p3.fr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H:\documents\virgo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