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9560" y="347976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2100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872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17520" y="47484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956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872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17520" y="3479760"/>
            <a:ext cx="294156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9680" y="158760"/>
            <a:ext cx="8420040" cy="14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21000" y="347976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9680" y="1328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1000" y="474840"/>
            <a:ext cx="445824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9560" y="3479760"/>
            <a:ext cx="9136080" cy="27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73600" y="6350040"/>
            <a:ext cx="21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F6E1-E1EA-4979-BDEE-6200ACC54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6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1.xml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284560" y="1228680"/>
            <a:ext cx="5634000" cy="110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" name=""/>
          <p:cNvGraphicFramePr/>
          <p:nvPr/>
        </p:nvGraphicFramePr>
        <p:xfrm>
          <a:off x="2568600" y="3497400"/>
          <a:ext cx="4822920" cy="1092240"/>
        </p:xfrm>
        <a:graphic>
          <a:graphicData uri="http://schemas.openxmlformats.org/drawingml/2006/table">
            <a:tbl>
              <a:tblPr/>
              <a:tblGrid>
                <a:gridCol w="1333440"/>
                <a:gridCol w="34894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h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 Arn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/12/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 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R-MAN-LAL-5600-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" name=""/>
          <p:cNvSpPr/>
          <p:nvPr/>
        </p:nvSpPr>
        <p:spPr>
          <a:xfrm>
            <a:off x="1544760" y="5853240"/>
            <a:ext cx="672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IRGO - European Gravitational Observa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</a:rPr>
              <a:t>Traversa H di Via Macerata - Santo Stefano a Macerata, -56021 Cascina, Itali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cretariat: Telephone (+39) 050 752 521  FAX (+39) 050 752 5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S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48000" y="1386000"/>
            <a:ext cx="22287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for the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43560" y="1795320"/>
            <a:ext cx="2152440" cy="41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5120" y="2633760"/>
            <a:ext cx="15145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91240" y="261468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ail if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76360" y="3662280"/>
            <a:ext cx="23716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47800" y="4481640"/>
            <a:ext cx="182880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on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52680" y="5253120"/>
            <a:ext cx="22194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the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62200" y="1633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62200" y="2890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62200" y="3919680"/>
            <a:ext cx="0" cy="55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62200" y="47386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6480" y="1471680"/>
            <a:ext cx="806400" cy="314280"/>
          </a:xfrm>
          <a:custGeom>
            <a:avLst/>
            <a:gdLst/>
            <a:ahLst/>
            <a:rect l="l" t="t" r="r" b="b"/>
            <a:pathLst>
              <a:path w="1270" h="495">
                <a:moveTo>
                  <a:pt x="0" y="45"/>
                </a:moveTo>
                <a:cubicBezTo>
                  <a:pt x="101" y="42"/>
                  <a:pt x="203" y="40"/>
                  <a:pt x="390" y="45"/>
                </a:cubicBezTo>
                <a:cubicBezTo>
                  <a:pt x="577" y="50"/>
                  <a:pt x="980" y="0"/>
                  <a:pt x="1125" y="75"/>
                </a:cubicBezTo>
                <a:cubicBezTo>
                  <a:pt x="1270" y="150"/>
                  <a:pt x="1265" y="322"/>
                  <a:pt x="1260" y="4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71920" y="2205000"/>
            <a:ext cx="1923840" cy="203400"/>
          </a:xfrm>
          <a:custGeom>
            <a:avLst/>
            <a:gdLst/>
            <a:ahLst/>
            <a:rect l="l" t="t" r="r" b="b"/>
            <a:pathLst>
              <a:path w="3030" h="320">
                <a:moveTo>
                  <a:pt x="3030" y="0"/>
                </a:moveTo>
                <a:cubicBezTo>
                  <a:pt x="3018" y="25"/>
                  <a:pt x="3017" y="103"/>
                  <a:pt x="2955" y="150"/>
                </a:cubicBezTo>
                <a:cubicBezTo>
                  <a:pt x="2893" y="197"/>
                  <a:pt x="2780" y="258"/>
                  <a:pt x="2655" y="285"/>
                </a:cubicBezTo>
                <a:cubicBezTo>
                  <a:pt x="2530" y="312"/>
                  <a:pt x="2542" y="310"/>
                  <a:pt x="2205" y="315"/>
                </a:cubicBezTo>
                <a:cubicBezTo>
                  <a:pt x="1868" y="320"/>
                  <a:pt x="997" y="317"/>
                  <a:pt x="630" y="315"/>
                </a:cubicBezTo>
                <a:cubicBezTo>
                  <a:pt x="263" y="313"/>
                  <a:pt x="131" y="306"/>
                  <a:pt x="0" y="3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24320" y="273852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71920" y="2871720"/>
            <a:ext cx="2111400" cy="252360"/>
          </a:xfrm>
          <a:custGeom>
            <a:avLst/>
            <a:gdLst/>
            <a:ahLst/>
            <a:rect l="l" t="t" r="r" b="b"/>
            <a:pathLst>
              <a:path w="3325" h="397">
                <a:moveTo>
                  <a:pt x="3315" y="0"/>
                </a:moveTo>
                <a:cubicBezTo>
                  <a:pt x="3320" y="89"/>
                  <a:pt x="3325" y="178"/>
                  <a:pt x="3225" y="240"/>
                </a:cubicBezTo>
                <a:cubicBezTo>
                  <a:pt x="3125" y="302"/>
                  <a:pt x="3253" y="353"/>
                  <a:pt x="2715" y="375"/>
                </a:cubicBezTo>
                <a:cubicBezTo>
                  <a:pt x="2177" y="397"/>
                  <a:pt x="1088" y="386"/>
                  <a:pt x="0" y="3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96080" y="4368960"/>
            <a:ext cx="69516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4000" y="3900600"/>
            <a:ext cx="12193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29080" y="483876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241680" y="4157640"/>
            <a:ext cx="324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38800" y="4624560"/>
            <a:ext cx="972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34040" y="3686040"/>
            <a:ext cx="2004840" cy="153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921200" y="4500720"/>
            <a:ext cx="588960" cy="204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5960" y="5445000"/>
            <a:ext cx="1743120" cy="519120"/>
          </a:xfrm>
          <a:prstGeom prst="wedgeRoundRectCallout">
            <a:avLst>
              <a:gd name="adj1" fmla="val -15208"/>
              <a:gd name="adj2" fmla="val -9893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diagram        on Wait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05840" y="2771640"/>
            <a:ext cx="1347480" cy="471600"/>
          </a:xfrm>
          <a:prstGeom prst="wedgeRoundRectCallout">
            <a:avLst>
              <a:gd name="adj1" fmla="val -116550"/>
              <a:gd name="adj2" fmla="val -567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Mess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48640" y="743040"/>
            <a:ext cx="1733400" cy="528480"/>
          </a:xfrm>
          <a:prstGeom prst="wedgeRoundRectCallout">
            <a:avLst>
              <a:gd name="adj1" fmla="val -68129"/>
              <a:gd name="adj2" fmla="val 167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CmConnectNew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4834080"/>
            <a:ext cx="10288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8140680" y="10033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8344080" y="3086280"/>
            <a:ext cx="241200" cy="25380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727">
                <a:moveTo>
                  <a:pt x="0" y="0"/>
                </a:moveTo>
                <a:lnTo>
                  <a:pt x="21600" y="0"/>
                </a:lnTo>
                <a:lnTo>
                  <a:pt x="21600" y="22727"/>
                </a:lnTo>
                <a:lnTo>
                  <a:pt x="0" y="22727"/>
                </a:lnTo>
                <a:close/>
              </a:path>
              <a:path fill="lightenLess" w="21600" h="22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7">
                <a:moveTo>
                  <a:pt x="21600" y="0"/>
                </a:moveTo>
                <a:lnTo>
                  <a:pt x="21600" y="22727"/>
                </a:lnTo>
                <a:lnTo>
                  <a:pt x="20200" y="21327"/>
                </a:lnTo>
                <a:lnTo>
                  <a:pt x="20200" y="1400"/>
                </a:lnTo>
                <a:close/>
              </a:path>
              <a:path fill="darkenLess" w="21600" h="22727">
                <a:moveTo>
                  <a:pt x="21600" y="22727"/>
                </a:moveTo>
                <a:lnTo>
                  <a:pt x="0" y="22727"/>
                </a:lnTo>
                <a:lnTo>
                  <a:pt x="1400" y="21327"/>
                </a:lnTo>
                <a:lnTo>
                  <a:pt x="20200" y="21327"/>
                </a:lnTo>
                <a:close/>
              </a:path>
              <a:path fill="lighten" w="21600" h="22727">
                <a:moveTo>
                  <a:pt x="0" y="22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7"/>
                </a:lnTo>
                <a:close/>
              </a:path>
              <a:path fill="darkenLess" w="21600" h="22727">
                <a:moveTo>
                  <a:pt x="5273" y="4548"/>
                </a:moveTo>
                <a:lnTo>
                  <a:pt x="12271" y="4548"/>
                </a:lnTo>
                <a:lnTo>
                  <a:pt x="16327" y="8047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7">
                <a:moveTo>
                  <a:pt x="12271" y="4548"/>
                </a:moveTo>
                <a:lnTo>
                  <a:pt x="16327" y="8047"/>
                </a:lnTo>
                <a:lnTo>
                  <a:pt x="12271" y="8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3" action="ppaction://hlinksldjump"/>
          </p:cNvPr>
          <p:cNvSpPr/>
          <p:nvPr/>
        </p:nvSpPr>
        <p:spPr>
          <a:xfrm>
            <a:off x="6134040" y="544824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0000" y="758880"/>
            <a:ext cx="181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174" idx="0"/>
          </p:cNvCxnSpPr>
          <p:nvPr/>
        </p:nvCxnSpPr>
        <p:spPr>
          <a:xfrm>
            <a:off x="2087640" y="987120"/>
            <a:ext cx="1475280" cy="399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79" idx="3"/>
            <a:endCxn id="179" idx="2"/>
          </p:cNvCxnSpPr>
          <p:nvPr/>
        </p:nvCxnSpPr>
        <p:spPr>
          <a:xfrm flipH="1">
            <a:off x="3561840" y="4614840"/>
            <a:ext cx="915120" cy="133560"/>
          </a:xfrm>
          <a:prstGeom prst="curvedConnector5">
            <a:avLst>
              <a:gd name="adj1" fmla="val -60920"/>
              <a:gd name="adj2" fmla="val 178918"/>
              <a:gd name="adj3" fmla="val -609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851360" y="113832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16120" y="174780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P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48000" y="1386000"/>
            <a:ext cx="22287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for the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43560" y="1795320"/>
            <a:ext cx="2152440" cy="41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05120" y="2633760"/>
            <a:ext cx="15145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91240" y="2614680"/>
            <a:ext cx="18288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ail if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76360" y="3662280"/>
            <a:ext cx="23716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messag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62200" y="1633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62200" y="2890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86480" y="1471680"/>
            <a:ext cx="806400" cy="314280"/>
          </a:xfrm>
          <a:custGeom>
            <a:avLst/>
            <a:gdLst/>
            <a:ahLst/>
            <a:rect l="l" t="t" r="r" b="b"/>
            <a:pathLst>
              <a:path w="1270" h="495">
                <a:moveTo>
                  <a:pt x="0" y="45"/>
                </a:moveTo>
                <a:cubicBezTo>
                  <a:pt x="101" y="42"/>
                  <a:pt x="203" y="40"/>
                  <a:pt x="390" y="45"/>
                </a:cubicBezTo>
                <a:cubicBezTo>
                  <a:pt x="577" y="50"/>
                  <a:pt x="980" y="0"/>
                  <a:pt x="1125" y="75"/>
                </a:cubicBezTo>
                <a:cubicBezTo>
                  <a:pt x="1270" y="150"/>
                  <a:pt x="1265" y="322"/>
                  <a:pt x="1260" y="49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71920" y="2205000"/>
            <a:ext cx="1923840" cy="203400"/>
          </a:xfrm>
          <a:custGeom>
            <a:avLst/>
            <a:gdLst/>
            <a:ahLst/>
            <a:rect l="l" t="t" r="r" b="b"/>
            <a:pathLst>
              <a:path w="3030" h="320">
                <a:moveTo>
                  <a:pt x="3030" y="0"/>
                </a:moveTo>
                <a:cubicBezTo>
                  <a:pt x="3018" y="25"/>
                  <a:pt x="3017" y="103"/>
                  <a:pt x="2955" y="150"/>
                </a:cubicBezTo>
                <a:cubicBezTo>
                  <a:pt x="2893" y="197"/>
                  <a:pt x="2780" y="258"/>
                  <a:pt x="2655" y="285"/>
                </a:cubicBezTo>
                <a:cubicBezTo>
                  <a:pt x="2530" y="312"/>
                  <a:pt x="2542" y="310"/>
                  <a:pt x="2205" y="315"/>
                </a:cubicBezTo>
                <a:cubicBezTo>
                  <a:pt x="1868" y="320"/>
                  <a:pt x="997" y="317"/>
                  <a:pt x="630" y="315"/>
                </a:cubicBezTo>
                <a:cubicBezTo>
                  <a:pt x="263" y="313"/>
                  <a:pt x="131" y="306"/>
                  <a:pt x="0" y="3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24320" y="273852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71920" y="2871720"/>
            <a:ext cx="2111400" cy="252360"/>
          </a:xfrm>
          <a:custGeom>
            <a:avLst/>
            <a:gdLst/>
            <a:ahLst/>
            <a:rect l="l" t="t" r="r" b="b"/>
            <a:pathLst>
              <a:path w="3325" h="397">
                <a:moveTo>
                  <a:pt x="3315" y="0"/>
                </a:moveTo>
                <a:cubicBezTo>
                  <a:pt x="3320" y="89"/>
                  <a:pt x="3325" y="178"/>
                  <a:pt x="3225" y="240"/>
                </a:cubicBezTo>
                <a:cubicBezTo>
                  <a:pt x="3125" y="302"/>
                  <a:pt x="3253" y="353"/>
                  <a:pt x="2715" y="375"/>
                </a:cubicBezTo>
                <a:cubicBezTo>
                  <a:pt x="2177" y="397"/>
                  <a:pt x="1088" y="386"/>
                  <a:pt x="0" y="3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05840" y="2771640"/>
            <a:ext cx="1347480" cy="471600"/>
          </a:xfrm>
          <a:prstGeom prst="wedgeRoundRectCallout">
            <a:avLst>
              <a:gd name="adj1" fmla="val -116550"/>
              <a:gd name="adj2" fmla="val -567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Mess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48640" y="743040"/>
            <a:ext cx="1733400" cy="528480"/>
          </a:xfrm>
          <a:prstGeom prst="wedgeRoundRectCallout">
            <a:avLst>
              <a:gd name="adj1" fmla="val -68129"/>
              <a:gd name="adj2" fmla="val 167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CmConnectNew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8140680" y="10033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44080" y="3086280"/>
            <a:ext cx="241200" cy="25380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727">
                <a:moveTo>
                  <a:pt x="0" y="0"/>
                </a:moveTo>
                <a:lnTo>
                  <a:pt x="21600" y="0"/>
                </a:lnTo>
                <a:lnTo>
                  <a:pt x="21600" y="22727"/>
                </a:lnTo>
                <a:lnTo>
                  <a:pt x="0" y="22727"/>
                </a:lnTo>
                <a:close/>
              </a:path>
              <a:path fill="lightenLess" w="21600" h="227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7">
                <a:moveTo>
                  <a:pt x="21600" y="0"/>
                </a:moveTo>
                <a:lnTo>
                  <a:pt x="21600" y="22727"/>
                </a:lnTo>
                <a:lnTo>
                  <a:pt x="20200" y="21327"/>
                </a:lnTo>
                <a:lnTo>
                  <a:pt x="20200" y="1400"/>
                </a:lnTo>
                <a:close/>
              </a:path>
              <a:path fill="darkenLess" w="21600" h="22727">
                <a:moveTo>
                  <a:pt x="21600" y="22727"/>
                </a:moveTo>
                <a:lnTo>
                  <a:pt x="0" y="22727"/>
                </a:lnTo>
                <a:lnTo>
                  <a:pt x="1400" y="21327"/>
                </a:lnTo>
                <a:lnTo>
                  <a:pt x="20200" y="21327"/>
                </a:lnTo>
                <a:close/>
              </a:path>
              <a:path fill="lighten" w="21600" h="22727">
                <a:moveTo>
                  <a:pt x="0" y="227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7"/>
                </a:lnTo>
                <a:close/>
              </a:path>
              <a:path fill="darkenLess" w="21600" h="22727">
                <a:moveTo>
                  <a:pt x="5273" y="4548"/>
                </a:moveTo>
                <a:lnTo>
                  <a:pt x="12271" y="4548"/>
                </a:lnTo>
                <a:lnTo>
                  <a:pt x="16327" y="8047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7">
                <a:moveTo>
                  <a:pt x="12271" y="4548"/>
                </a:moveTo>
                <a:lnTo>
                  <a:pt x="16327" y="8047"/>
                </a:lnTo>
                <a:lnTo>
                  <a:pt x="12271" y="8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0000" y="758880"/>
            <a:ext cx="181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4" idx="3"/>
            <a:endCxn id="209" idx="0"/>
          </p:cNvCxnSpPr>
          <p:nvPr/>
        </p:nvCxnSpPr>
        <p:spPr>
          <a:xfrm>
            <a:off x="2087640" y="987120"/>
            <a:ext cx="1475280" cy="399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4851360" y="113832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174780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93760" y="4465800"/>
            <a:ext cx="4559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eration on sending partial message blocks will be performed at each subsequent call to either CmMessageWait or CmMessageChe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, when the send is completed, an optional handler will be ca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52960" y="488952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ConnectN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62120" y="1027080"/>
            <a:ext cx="24386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 reference for tha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19480" y="1874880"/>
            <a:ext cx="29239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a “GetAddress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81280" y="2598840"/>
            <a:ext cx="40003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a NSGetAddress message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71840" y="3351240"/>
            <a:ext cx="24192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with timeout (10 seco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25640" y="5038560"/>
            <a:ext cx="10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9280" y="5504040"/>
            <a:ext cx="252432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 reference for tha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81440" y="128412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81440" y="2131920"/>
            <a:ext cx="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81440" y="2855880"/>
            <a:ext cx="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81440" y="3608280"/>
            <a:ext cx="0" cy="18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10120" y="115092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73640" y="879480"/>
            <a:ext cx="1505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al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35440" y="503856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49400" y="3444840"/>
            <a:ext cx="1355760" cy="523800"/>
          </a:xfrm>
          <a:custGeom>
            <a:avLst/>
            <a:gdLst/>
            <a:ahLst/>
            <a:rect l="l" t="t" r="r" b="b"/>
            <a:pathLst>
              <a:path w="2135" h="826">
                <a:moveTo>
                  <a:pt x="2075" y="258"/>
                </a:moveTo>
                <a:cubicBezTo>
                  <a:pt x="2086" y="388"/>
                  <a:pt x="2135" y="513"/>
                  <a:pt x="2060" y="603"/>
                </a:cubicBezTo>
                <a:cubicBezTo>
                  <a:pt x="1985" y="693"/>
                  <a:pt x="1915" y="770"/>
                  <a:pt x="1625" y="798"/>
                </a:cubicBezTo>
                <a:cubicBezTo>
                  <a:pt x="1335" y="826"/>
                  <a:pt x="588" y="820"/>
                  <a:pt x="320" y="768"/>
                </a:cubicBezTo>
                <a:cubicBezTo>
                  <a:pt x="52" y="716"/>
                  <a:pt x="40" y="598"/>
                  <a:pt x="20" y="483"/>
                </a:cubicBezTo>
                <a:cubicBezTo>
                  <a:pt x="0" y="368"/>
                  <a:pt x="40" y="156"/>
                  <a:pt x="200" y="78"/>
                </a:cubicBezTo>
                <a:cubicBezTo>
                  <a:pt x="360" y="0"/>
                  <a:pt x="818" y="30"/>
                  <a:pt x="980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34080" y="2031840"/>
            <a:ext cx="2290680" cy="282600"/>
          </a:xfrm>
          <a:prstGeom prst="wedgeRoundRectCallout">
            <a:avLst>
              <a:gd name="adj1" fmla="val -55476"/>
              <a:gd name="adj2" fmla="val 188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internal Cm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72040" y="2708280"/>
            <a:ext cx="3224520" cy="501480"/>
          </a:xfrm>
          <a:prstGeom prst="wedgeRoundRectCallout">
            <a:avLst>
              <a:gd name="adj1" fmla="val -83333"/>
              <a:gd name="adj2" fmla="val 9968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by the CmNameServerTimeout internal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57800" y="3546360"/>
            <a:ext cx="2795760" cy="23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SAddress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20000" y="3865680"/>
            <a:ext cx="11430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96120" y="4579920"/>
            <a:ext cx="23907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new CmConnect object, initialized with the inf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15280" y="5465880"/>
            <a:ext cx="21524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th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91320" y="412272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91320" y="508464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181120" y="4065480"/>
            <a:ext cx="676440" cy="1009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8724960" y="60451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7873920" y="1930320"/>
            <a:ext cx="241560" cy="25416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25">
                <a:moveTo>
                  <a:pt x="0" y="0"/>
                </a:moveTo>
                <a:lnTo>
                  <a:pt x="21600" y="0"/>
                </a:lnTo>
                <a:lnTo>
                  <a:pt x="21600" y="22725"/>
                </a:lnTo>
                <a:lnTo>
                  <a:pt x="0" y="22725"/>
                </a:lnTo>
                <a:close/>
              </a:path>
              <a:path fill="lightenLess" w="21600" h="227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25">
                <a:moveTo>
                  <a:pt x="21600" y="0"/>
                </a:moveTo>
                <a:lnTo>
                  <a:pt x="21600" y="22725"/>
                </a:lnTo>
                <a:lnTo>
                  <a:pt x="20200" y="21325"/>
                </a:lnTo>
                <a:lnTo>
                  <a:pt x="20200" y="1400"/>
                </a:lnTo>
                <a:close/>
              </a:path>
              <a:path fill="darkenLess" w="21600" h="22725">
                <a:moveTo>
                  <a:pt x="21600" y="22725"/>
                </a:moveTo>
                <a:lnTo>
                  <a:pt x="0" y="22725"/>
                </a:lnTo>
                <a:lnTo>
                  <a:pt x="1400" y="21325"/>
                </a:lnTo>
                <a:lnTo>
                  <a:pt x="20200" y="21325"/>
                </a:lnTo>
                <a:close/>
              </a:path>
              <a:path fill="lighten" w="21600" h="22725">
                <a:moveTo>
                  <a:pt x="0" y="227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25"/>
                </a:lnTo>
                <a:close/>
              </a:path>
              <a:path fill="darkenLess" w="21600" h="22725">
                <a:moveTo>
                  <a:pt x="5273" y="4548"/>
                </a:moveTo>
                <a:lnTo>
                  <a:pt x="12271" y="4548"/>
                </a:lnTo>
                <a:lnTo>
                  <a:pt x="16327" y="8046"/>
                </a:lnTo>
                <a:lnTo>
                  <a:pt x="16327" y="18178"/>
                </a:lnTo>
                <a:lnTo>
                  <a:pt x="5273" y="18178"/>
                </a:lnTo>
                <a:close/>
              </a:path>
              <a:path fill="darken" w="21600" h="22725">
                <a:moveTo>
                  <a:pt x="12271" y="4548"/>
                </a:moveTo>
                <a:lnTo>
                  <a:pt x="16327" y="8046"/>
                </a:lnTo>
                <a:lnTo>
                  <a:pt x="12271" y="804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08200" y="1438200"/>
            <a:ext cx="1505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" action="ppaction://hlinksldjump"/>
          </p:cNvPr>
          <p:cNvSpPr/>
          <p:nvPr/>
        </p:nvSpPr>
        <p:spPr>
          <a:xfrm>
            <a:off x="8508960" y="454644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0760" y="42876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8" idx="3"/>
            <a:endCxn id="231" idx="0"/>
          </p:cNvCxnSpPr>
          <p:nvPr/>
        </p:nvCxnSpPr>
        <p:spPr>
          <a:xfrm>
            <a:off x="2138400" y="566280"/>
            <a:ext cx="1643760" cy="461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>
            <a:hlinkClick r:id="rId3" action="ppaction://hlinksldjump"/>
          </p:cNvPr>
          <p:cNvSpPr/>
          <p:nvPr/>
        </p:nvSpPr>
        <p:spPr>
          <a:xfrm>
            <a:off x="2489040" y="3543480"/>
            <a:ext cx="241560" cy="25380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53800"/>
              <a:gd name="textAreaBottom" fmla="*/ 238320 h 253800"/>
            </a:gdLst>
            <a:ahLst/>
            <a:rect l="textAreaLeft" t="textAreaTop" r="textAreaRight" b="textAreaBottom"/>
            <a:pathLst>
              <a:path w="21600" h="22693">
                <a:moveTo>
                  <a:pt x="0" y="0"/>
                </a:moveTo>
                <a:lnTo>
                  <a:pt x="21600" y="0"/>
                </a:lnTo>
                <a:lnTo>
                  <a:pt x="21600" y="22693"/>
                </a:lnTo>
                <a:lnTo>
                  <a:pt x="0" y="22693"/>
                </a:lnTo>
                <a:close/>
              </a:path>
              <a:path fill="lightenLess" w="21600" h="226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93">
                <a:moveTo>
                  <a:pt x="21600" y="0"/>
                </a:moveTo>
                <a:lnTo>
                  <a:pt x="21600" y="22693"/>
                </a:lnTo>
                <a:lnTo>
                  <a:pt x="20200" y="21293"/>
                </a:lnTo>
                <a:lnTo>
                  <a:pt x="20200" y="1400"/>
                </a:lnTo>
                <a:close/>
              </a:path>
              <a:path fill="darkenLess" w="21600" h="22693">
                <a:moveTo>
                  <a:pt x="21600" y="22693"/>
                </a:moveTo>
                <a:lnTo>
                  <a:pt x="0" y="22693"/>
                </a:lnTo>
                <a:lnTo>
                  <a:pt x="1400" y="21293"/>
                </a:lnTo>
                <a:lnTo>
                  <a:pt x="20200" y="21293"/>
                </a:lnTo>
                <a:close/>
              </a:path>
              <a:path fill="lighten" w="21600" h="22693">
                <a:moveTo>
                  <a:pt x="0" y="226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93"/>
                </a:lnTo>
                <a:close/>
              </a:path>
              <a:path fill="darkenLess" w="21600" h="22693">
                <a:moveTo>
                  <a:pt x="5273" y="4531"/>
                </a:moveTo>
                <a:lnTo>
                  <a:pt x="12271" y="4531"/>
                </a:lnTo>
                <a:lnTo>
                  <a:pt x="16327" y="8030"/>
                </a:lnTo>
                <a:lnTo>
                  <a:pt x="16327" y="18161"/>
                </a:lnTo>
                <a:lnTo>
                  <a:pt x="5273" y="18161"/>
                </a:lnTo>
                <a:close/>
              </a:path>
              <a:path fill="darken" w="21600" h="22693">
                <a:moveTo>
                  <a:pt x="12271" y="4531"/>
                </a:moveTo>
                <a:lnTo>
                  <a:pt x="16327" y="8030"/>
                </a:lnTo>
                <a:lnTo>
                  <a:pt x="12271" y="803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ConnectNewWith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6880" y="149688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mConnec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239544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336760" y="4192560"/>
            <a:ext cx="4178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l a reception handler for decoding Cm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36760" y="5091120"/>
            <a:ext cx="41785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local infos to the newly connected remot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3" idx="2"/>
            <a:endCxn id="264" idx="0"/>
          </p:cNvCxnSpPr>
          <p:nvPr/>
        </p:nvCxnSpPr>
        <p:spPr>
          <a:xfrm>
            <a:off x="4425480" y="178128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4" idx="2"/>
            <a:endCxn id="269" idx="0"/>
          </p:cNvCxnSpPr>
          <p:nvPr/>
        </p:nvCxnSpPr>
        <p:spPr>
          <a:xfrm>
            <a:off x="4425480" y="267984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5" idx="2"/>
            <a:endCxn id="266" idx="0"/>
          </p:cNvCxnSpPr>
          <p:nvPr/>
        </p:nvCxnSpPr>
        <p:spPr>
          <a:xfrm>
            <a:off x="4425480" y="4476240"/>
            <a:ext cx="10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861240" y="4260960"/>
            <a:ext cx="2406600" cy="477720"/>
          </a:xfrm>
          <a:prstGeom prst="wedgeRoundRectCallout">
            <a:avLst>
              <a:gd name="adj1" fmla="val -69393"/>
              <a:gd name="adj2" fmla="val 15631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 a CmServerInfo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8547120" y="4584600"/>
            <a:ext cx="241200" cy="25416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54160"/>
              <a:gd name="textAreaBottom" fmla="*/ 238680 h 254160"/>
            </a:gdLst>
            <a:ahLst/>
            <a:rect l="textAreaLeft" t="textAreaTop" r="textAreaRight" b="textAreaBottom"/>
            <a:pathLst>
              <a:path w="21600" h="22759">
                <a:moveTo>
                  <a:pt x="0" y="0"/>
                </a:moveTo>
                <a:lnTo>
                  <a:pt x="21600" y="0"/>
                </a:lnTo>
                <a:lnTo>
                  <a:pt x="21600" y="22759"/>
                </a:lnTo>
                <a:lnTo>
                  <a:pt x="0" y="22759"/>
                </a:lnTo>
                <a:close/>
              </a:path>
              <a:path fill="lightenLess" w="21600" h="227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59">
                <a:moveTo>
                  <a:pt x="21600" y="0"/>
                </a:moveTo>
                <a:lnTo>
                  <a:pt x="21600" y="22759"/>
                </a:lnTo>
                <a:lnTo>
                  <a:pt x="20200" y="21359"/>
                </a:lnTo>
                <a:lnTo>
                  <a:pt x="20200" y="1400"/>
                </a:lnTo>
                <a:close/>
              </a:path>
              <a:path fill="darkenLess" w="21600" h="22759">
                <a:moveTo>
                  <a:pt x="21600" y="22759"/>
                </a:moveTo>
                <a:lnTo>
                  <a:pt x="0" y="22759"/>
                </a:lnTo>
                <a:lnTo>
                  <a:pt x="1400" y="21359"/>
                </a:lnTo>
                <a:lnTo>
                  <a:pt x="20200" y="21359"/>
                </a:lnTo>
                <a:close/>
              </a:path>
              <a:path fill="lighten" w="21600" h="22759">
                <a:moveTo>
                  <a:pt x="0" y="227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59"/>
                </a:lnTo>
                <a:close/>
              </a:path>
              <a:path fill="darkenLess" w="21600" h="22759">
                <a:moveTo>
                  <a:pt x="5273" y="4564"/>
                </a:moveTo>
                <a:lnTo>
                  <a:pt x="12271" y="4564"/>
                </a:lnTo>
                <a:lnTo>
                  <a:pt x="16327" y="8063"/>
                </a:lnTo>
                <a:lnTo>
                  <a:pt x="16327" y="18194"/>
                </a:lnTo>
                <a:lnTo>
                  <a:pt x="5273" y="18194"/>
                </a:lnTo>
                <a:close/>
              </a:path>
              <a:path fill="darken" w="21600" h="22759">
                <a:moveTo>
                  <a:pt x="12271" y="4564"/>
                </a:moveTo>
                <a:lnTo>
                  <a:pt x="16327" y="8063"/>
                </a:lnTo>
                <a:lnTo>
                  <a:pt x="12271" y="80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0000" y="758880"/>
            <a:ext cx="181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3" idx="0"/>
          </p:cNvCxnSpPr>
          <p:nvPr/>
        </p:nvCxnSpPr>
        <p:spPr>
          <a:xfrm>
            <a:off x="2087280" y="1079280"/>
            <a:ext cx="2338920" cy="417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3206880" y="329400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the TCPIP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69" idx="2"/>
            <a:endCxn id="265" idx="0"/>
          </p:cNvCxnSpPr>
          <p:nvPr/>
        </p:nvCxnSpPr>
        <p:spPr>
          <a:xfrm>
            <a:off x="4425480" y="3578400"/>
            <a:ext cx="1080" cy="61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9296280" y="51307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41720" y="130644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or restart the “Cm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8" idx="2"/>
            <a:endCxn id="280" idx="0"/>
          </p:cNvCxnSpPr>
          <p:nvPr/>
        </p:nvCxnSpPr>
        <p:spPr>
          <a:xfrm>
            <a:off x="3841560" y="1590840"/>
            <a:ext cx="1332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270000" y="75888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ime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3"/>
            <a:endCxn id="278" idx="0"/>
          </p:cNvCxnSpPr>
          <p:nvPr/>
        </p:nvCxnSpPr>
        <p:spPr>
          <a:xfrm>
            <a:off x="2087280" y="896760"/>
            <a:ext cx="1755000" cy="410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666720" y="1916280"/>
            <a:ext cx="6375600" cy="43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oop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06560" y="2246400"/>
            <a:ext cx="16513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33680" y="3075120"/>
            <a:ext cx="2197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ge all dead conn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08440" y="3903840"/>
            <a:ext cx="1447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43280" y="4732200"/>
            <a:ext cx="33778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(read-masks, write-masks, time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31840" y="556092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stCxn id="283" idx="2"/>
            <a:endCxn id="284" idx="0"/>
          </p:cNvCxnSpPr>
          <p:nvPr/>
        </p:nvCxnSpPr>
        <p:spPr>
          <a:xfrm>
            <a:off x="3631680" y="2530080"/>
            <a:ext cx="108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4" idx="2"/>
            <a:endCxn id="285" idx="0"/>
          </p:cNvCxnSpPr>
          <p:nvPr/>
        </p:nvCxnSpPr>
        <p:spPr>
          <a:xfrm>
            <a:off x="3631680" y="3358800"/>
            <a:ext cx="108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5" idx="2"/>
            <a:endCxn id="286" idx="0"/>
          </p:cNvCxnSpPr>
          <p:nvPr/>
        </p:nvCxnSpPr>
        <p:spPr>
          <a:xfrm>
            <a:off x="3631680" y="418788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6" idx="2"/>
            <a:endCxn id="287" idx="0"/>
          </p:cNvCxnSpPr>
          <p:nvPr/>
        </p:nvCxnSpPr>
        <p:spPr>
          <a:xfrm>
            <a:off x="3631680" y="5016600"/>
            <a:ext cx="108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3632040" y="2743200"/>
            <a:ext cx="382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48360" y="2978280"/>
            <a:ext cx="2762280" cy="1023840"/>
          </a:xfrm>
          <a:prstGeom prst="wedgeRoundRectCallout">
            <a:avLst>
              <a:gd name="adj1" fmla="val -118388"/>
              <a:gd name="adj2" fmla="val 47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read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4200" y="5759280"/>
            <a:ext cx="3651480" cy="668520"/>
          </a:xfrm>
          <a:prstGeom prst="wedgeRoundRectCallout">
            <a:avLst>
              <a:gd name="adj1" fmla="val -71824"/>
              <a:gd name="adj2" fmla="val -54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mConnectStatus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 for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22720" y="2104920"/>
            <a:ext cx="222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i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iterator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45000" y="5295960"/>
            <a:ext cx="382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29160" y="4987800"/>
            <a:ext cx="19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30840" y="514440"/>
            <a:ext cx="4022640" cy="1100160"/>
          </a:xfrm>
          <a:prstGeom prst="wedgeRoundRectCallout">
            <a:avLst>
              <a:gd name="adj1" fmla="val -84962"/>
              <a:gd name="adj2" fmla="val 1169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ll possible handlers declared on conn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Post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CmMessageCh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previousslide"/>
          </p:cNvPr>
          <p:cNvSpPr/>
          <p:nvPr/>
        </p:nvSpPr>
        <p:spPr>
          <a:xfrm>
            <a:off x="9296280" y="513072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31840" y="128124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or restart the “Cm”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303" idx="0"/>
          </p:cNvCxnSpPr>
          <p:nvPr/>
        </p:nvCxnSpPr>
        <p:spPr>
          <a:xfrm>
            <a:off x="3631680" y="156492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>
            <a:off x="2806560" y="2136600"/>
            <a:ext cx="16513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33680" y="2992320"/>
            <a:ext cx="2197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ge all dead conn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08440" y="3848040"/>
            <a:ext cx="1447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03240" y="4703760"/>
            <a:ext cx="36576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(read-masks, write-masks, non-block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031840" y="5560920"/>
            <a:ext cx="3200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m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"/>
          <p:cNvCxnSpPr>
            <a:stCxn id="303" idx="2"/>
            <a:endCxn id="304" idx="0"/>
          </p:cNvCxnSpPr>
          <p:nvPr/>
        </p:nvCxnSpPr>
        <p:spPr>
          <a:xfrm>
            <a:off x="3631680" y="242064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304" idx="2"/>
            <a:endCxn id="305" idx="0"/>
          </p:cNvCxnSpPr>
          <p:nvPr/>
        </p:nvCxnSpPr>
        <p:spPr>
          <a:xfrm>
            <a:off x="3631680" y="32763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5" idx="2"/>
            <a:endCxn id="306" idx="0"/>
          </p:cNvCxnSpPr>
          <p:nvPr/>
        </p:nvCxnSpPr>
        <p:spPr>
          <a:xfrm>
            <a:off x="3631680" y="413208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6" idx="2"/>
            <a:endCxn id="307" idx="0"/>
          </p:cNvCxnSpPr>
          <p:nvPr/>
        </p:nvCxnSpPr>
        <p:spPr>
          <a:xfrm>
            <a:off x="3631680" y="4987800"/>
            <a:ext cx="10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632040" y="2743200"/>
            <a:ext cx="382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48360" y="2978280"/>
            <a:ext cx="2762280" cy="1023840"/>
          </a:xfrm>
          <a:prstGeom prst="wedgeRoundRectCallout">
            <a:avLst>
              <a:gd name="adj1" fmla="val -118388"/>
              <a:gd name="adj2" fmla="val 47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read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write m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4200" y="5759280"/>
            <a:ext cx="3651480" cy="668520"/>
          </a:xfrm>
          <a:prstGeom prst="wedgeRoundRectCallout">
            <a:avLst>
              <a:gd name="adj1" fmla="val -71824"/>
              <a:gd name="adj2" fmla="val -545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mConnectStatus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or for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22720" y="2104920"/>
            <a:ext cx="222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i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er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iterator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30840" y="514440"/>
            <a:ext cx="4022640" cy="1100160"/>
          </a:xfrm>
          <a:prstGeom prst="wedgeRoundRectCallout">
            <a:avLst>
              <a:gd name="adj1" fmla="val -84962"/>
              <a:gd name="adj2" fmla="val 1169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ll possible handlers declared on conn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Message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Post han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nal structure of a CmMessage ob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93600" y="1433520"/>
            <a:ext cx="1308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3600" y="5243400"/>
            <a:ext cx="13082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36760" y="749160"/>
            <a:ext cx="3251160" cy="1663920"/>
          </a:xfrm>
          <a:prstGeom prst="leftArrowCallout">
            <a:avLst>
              <a:gd name="adj1" fmla="val 9056"/>
              <a:gd name="adj2" fmla="val 15579"/>
              <a:gd name="adj3" fmla="val 28458"/>
              <a:gd name="adj4" fmla="val 51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968640" y="798480"/>
            <a:ext cx="1739520" cy="282600"/>
            <a:chOff x="3968640" y="798480"/>
            <a:chExt cx="1739520" cy="282600"/>
          </a:xfrm>
        </p:grpSpPr>
        <p:sp>
          <p:nvSpPr>
            <p:cNvPr id="322" name=""/>
            <p:cNvSpPr/>
            <p:nvPr/>
          </p:nvSpPr>
          <p:spPr>
            <a:xfrm>
              <a:off x="3968640" y="79848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yte swap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23240" y="80460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968640" y="1117440"/>
            <a:ext cx="1739520" cy="279720"/>
            <a:chOff x="3968640" y="1117440"/>
            <a:chExt cx="1739520" cy="279720"/>
          </a:xfrm>
        </p:grpSpPr>
        <p:sp>
          <p:nvSpPr>
            <p:cNvPr id="325" name=""/>
            <p:cNvSpPr/>
            <p:nvPr/>
          </p:nvSpPr>
          <p:spPr>
            <a:xfrm>
              <a:off x="3968640" y="111744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23240" y="112068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956040" y="1436760"/>
            <a:ext cx="1739520" cy="279360"/>
            <a:chOff x="3956040" y="1436760"/>
            <a:chExt cx="1739520" cy="279360"/>
          </a:xfrm>
        </p:grpSpPr>
        <p:sp>
          <p:nvSpPr>
            <p:cNvPr id="328" name=""/>
            <p:cNvSpPr/>
            <p:nvPr/>
          </p:nvSpPr>
          <p:spPr>
            <a:xfrm>
              <a:off x="3956040" y="143676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# Byt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10640" y="143964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956040" y="1755720"/>
            <a:ext cx="1739520" cy="279360"/>
            <a:chOff x="3956040" y="1755720"/>
            <a:chExt cx="1739520" cy="279360"/>
          </a:xfrm>
        </p:grpSpPr>
        <p:sp>
          <p:nvSpPr>
            <p:cNvPr id="331" name=""/>
            <p:cNvSpPr/>
            <p:nvPr/>
          </p:nvSpPr>
          <p:spPr>
            <a:xfrm>
              <a:off x="3956040" y="175572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set to t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10640" y="175860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956040" y="2075040"/>
            <a:ext cx="1739880" cy="279360"/>
            <a:chOff x="3956040" y="2075040"/>
            <a:chExt cx="1739880" cy="279360"/>
          </a:xfrm>
        </p:grpSpPr>
        <p:sp>
          <p:nvSpPr>
            <p:cNvPr id="334" name=""/>
            <p:cNvSpPr/>
            <p:nvPr/>
          </p:nvSpPr>
          <p:spPr>
            <a:xfrm>
              <a:off x="3956040" y="2075040"/>
              <a:ext cx="1249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10280" y="20779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56480" y="2800440"/>
            <a:ext cx="2153520" cy="1523520"/>
            <a:chOff x="456480" y="2800440"/>
            <a:chExt cx="2153520" cy="1523520"/>
          </a:xfrm>
        </p:grpSpPr>
        <p:sp>
          <p:nvSpPr>
            <p:cNvPr id="337" name=""/>
            <p:cNvSpPr/>
            <p:nvPr/>
          </p:nvSpPr>
          <p:spPr>
            <a:xfrm>
              <a:off x="685800" y="2800440"/>
              <a:ext cx="1911600" cy="1295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1200" y="290052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tem 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1200" y="372600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1200" y="3313080"/>
              <a:ext cx="1314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ig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1" name=""/>
            <p:cNvCxnSpPr>
              <a:stCxn id="337" idx="2"/>
              <a:endCxn id="337" idx="1"/>
            </p:cNvCxnSpPr>
            <p:nvPr/>
          </p:nvCxnSpPr>
          <p:spPr>
            <a:xfrm flipV="1" rot="16200000">
              <a:off x="839160" y="3293280"/>
              <a:ext cx="648360" cy="956520"/>
            </a:xfrm>
            <a:prstGeom prst="bentConnector4">
              <a:avLst>
                <a:gd name="adj1" fmla="val -35277"/>
                <a:gd name="adj2" fmla="val 1239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2" name=""/>
            <p:cNvSpPr/>
            <p:nvPr/>
          </p:nvSpPr>
          <p:spPr>
            <a:xfrm>
              <a:off x="2136960" y="29098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24000" y="3316320"/>
              <a:ext cx="4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336760" y="5187960"/>
            <a:ext cx="3251160" cy="406440"/>
          </a:xfrm>
          <a:prstGeom prst="leftArrowCallout">
            <a:avLst>
              <a:gd name="adj1" fmla="val 21872"/>
              <a:gd name="adj2" fmla="val 46875"/>
              <a:gd name="adj3" fmla="val 114839"/>
              <a:gd name="adj4" fmla="val 51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956040" y="5251320"/>
            <a:ext cx="1739520" cy="279720"/>
            <a:chOff x="3956040" y="5251320"/>
            <a:chExt cx="1739520" cy="279720"/>
          </a:xfrm>
        </p:grpSpPr>
        <p:sp>
          <p:nvSpPr>
            <p:cNvPr id="346" name=""/>
            <p:cNvSpPr/>
            <p:nvPr/>
          </p:nvSpPr>
          <p:spPr>
            <a:xfrm>
              <a:off x="3956040" y="5251320"/>
              <a:ext cx="12484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10640" y="5254560"/>
              <a:ext cx="48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5880240" y="1270080"/>
            <a:ext cx="622080" cy="5207040"/>
          </a:xfrm>
          <a:custGeom>
            <a:avLst/>
            <a:gdLst>
              <a:gd name="textAreaLeft" fmla="*/ 397440 w 622080"/>
              <a:gd name="textAreaRight" fmla="*/ 622440 w 622080"/>
              <a:gd name="textAreaTop" fmla="*/ 135360 h 5207040"/>
              <a:gd name="textAreaBottom" fmla="*/ 5071680 h 520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54"/>
                </a:lnTo>
                <a:cubicBezTo>
                  <a:pt x="10800" y="9953"/>
                  <a:pt x="5400" y="10852"/>
                  <a:pt x="0" y="10852"/>
                </a:cubicBezTo>
                <a:cubicBezTo>
                  <a:pt x="5400" y="10852"/>
                  <a:pt x="10800" y="11751"/>
                  <a:pt x="10800" y="12650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8" idx="1"/>
            <a:endCxn id="339" idx="3"/>
          </p:cNvCxnSpPr>
          <p:nvPr/>
        </p:nvCxnSpPr>
        <p:spPr>
          <a:xfrm rot="10800000">
            <a:off x="2094840" y="3867840"/>
            <a:ext cx="3766320" cy="5760"/>
          </a:xfrm>
          <a:prstGeom prst="curvedConnector5">
            <a:avLst>
              <a:gd name="adj1" fmla="val 49737"/>
              <a:gd name="adj2" fmla="val 46666"/>
              <a:gd name="adj3" fmla="val 4973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"/>
          <p:cNvGrpSpPr/>
          <p:nvPr/>
        </p:nvGrpSpPr>
        <p:grpSpPr>
          <a:xfrm>
            <a:off x="6477120" y="1262160"/>
            <a:ext cx="3238560" cy="5183280"/>
            <a:chOff x="6477120" y="1262160"/>
            <a:chExt cx="3238560" cy="5183280"/>
          </a:xfrm>
        </p:grpSpPr>
        <p:grpSp>
          <p:nvGrpSpPr>
            <p:cNvPr id="351" name=""/>
            <p:cNvGrpSpPr/>
            <p:nvPr/>
          </p:nvGrpSpPr>
          <p:grpSpPr>
            <a:xfrm>
              <a:off x="6477120" y="1262160"/>
              <a:ext cx="2927520" cy="281160"/>
              <a:chOff x="6477120" y="1262160"/>
              <a:chExt cx="2927520" cy="281160"/>
            </a:xfrm>
          </p:grpSpPr>
          <p:sp>
            <p:nvSpPr>
              <p:cNvPr id="352" name=""/>
              <p:cNvSpPr/>
              <p:nvPr/>
            </p:nvSpPr>
            <p:spPr>
              <a:xfrm>
                <a:off x="8102880" y="12621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477120" y="12668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h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477120" y="1692360"/>
              <a:ext cx="2927520" cy="282600"/>
              <a:chOff x="6477120" y="1692360"/>
              <a:chExt cx="2927520" cy="282600"/>
            </a:xfrm>
          </p:grpSpPr>
          <p:sp>
            <p:nvSpPr>
              <p:cNvPr id="355" name=""/>
              <p:cNvSpPr/>
              <p:nvPr/>
            </p:nvSpPr>
            <p:spPr>
              <a:xfrm>
                <a:off x="8102880" y="16923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o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477120" y="16984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ho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6477120" y="2122560"/>
              <a:ext cx="2927520" cy="281160"/>
              <a:chOff x="6477120" y="2122560"/>
              <a:chExt cx="2927520" cy="281160"/>
            </a:xfrm>
          </p:grpSpPr>
          <p:sp>
            <p:nvSpPr>
              <p:cNvPr id="358" name=""/>
              <p:cNvSpPr/>
              <p:nvPr/>
            </p:nvSpPr>
            <p:spPr>
              <a:xfrm>
                <a:off x="8102880" y="21225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477120" y="21272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477120" y="2554560"/>
              <a:ext cx="2927520" cy="281160"/>
              <a:chOff x="6477120" y="2554560"/>
              <a:chExt cx="2927520" cy="281160"/>
            </a:xfrm>
          </p:grpSpPr>
          <p:sp>
            <p:nvSpPr>
              <p:cNvPr id="361" name=""/>
              <p:cNvSpPr/>
              <p:nvPr/>
            </p:nvSpPr>
            <p:spPr>
              <a:xfrm>
                <a:off x="8102880" y="25545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ing (valu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477120" y="25592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477120" y="2984760"/>
              <a:ext cx="2927520" cy="282600"/>
              <a:chOff x="6477120" y="2984760"/>
              <a:chExt cx="2927520" cy="282600"/>
            </a:xfrm>
          </p:grpSpPr>
          <p:sp>
            <p:nvSpPr>
              <p:cNvPr id="364" name=""/>
              <p:cNvSpPr/>
              <p:nvPr/>
            </p:nvSpPr>
            <p:spPr>
              <a:xfrm>
                <a:off x="8102880" y="29847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lo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477120" y="29908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lo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477120" y="3414960"/>
              <a:ext cx="2927520" cy="281160"/>
              <a:chOff x="6477120" y="3414960"/>
              <a:chExt cx="2927520" cy="281160"/>
            </a:xfrm>
          </p:grpSpPr>
          <p:sp>
            <p:nvSpPr>
              <p:cNvPr id="367" name=""/>
              <p:cNvSpPr/>
              <p:nvPr/>
            </p:nvSpPr>
            <p:spPr>
              <a:xfrm>
                <a:off x="8102880" y="3414960"/>
                <a:ext cx="13017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u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477120" y="341964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ou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6477120" y="3846600"/>
              <a:ext cx="3238560" cy="1006560"/>
              <a:chOff x="6477120" y="3846600"/>
              <a:chExt cx="3238560" cy="1006560"/>
            </a:xfrm>
          </p:grpSpPr>
          <p:sp>
            <p:nvSpPr>
              <p:cNvPr id="370" name=""/>
              <p:cNvSpPr/>
              <p:nvPr/>
            </p:nvSpPr>
            <p:spPr>
              <a:xfrm>
                <a:off x="7791840" y="3846600"/>
                <a:ext cx="1923840" cy="100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lement 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# ele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lements * element-si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477120" y="42166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477120" y="5007240"/>
              <a:ext cx="3238560" cy="824040"/>
              <a:chOff x="6477120" y="5007240"/>
              <a:chExt cx="3238560" cy="824040"/>
            </a:xfrm>
          </p:grpSpPr>
          <p:sp>
            <p:nvSpPr>
              <p:cNvPr id="373" name=""/>
              <p:cNvSpPr/>
              <p:nvPr/>
            </p:nvSpPr>
            <p:spPr>
              <a:xfrm>
                <a:off x="7791840" y="5007240"/>
                <a:ext cx="1923840" cy="82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tem 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alignmen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ngth + 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77120" y="528660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477120" y="5986440"/>
              <a:ext cx="3238560" cy="459000"/>
              <a:chOff x="6477120" y="5986440"/>
              <a:chExt cx="3238560" cy="459000"/>
            </a:xfrm>
          </p:grpSpPr>
          <p:sp>
            <p:nvSpPr>
              <p:cNvPr id="376" name=""/>
              <p:cNvSpPr/>
              <p:nvPr/>
            </p:nvSpPr>
            <p:spPr>
              <a:xfrm>
                <a:off x="7791840" y="5986440"/>
                <a:ext cx="1923840" cy="45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# by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yte arr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77120" y="6083280"/>
                <a:ext cx="1044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y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378" name=""/>
          <p:cNvCxnSpPr>
            <a:stCxn id="318" idx="2"/>
            <a:endCxn id="337" idx="0"/>
          </p:cNvCxnSpPr>
          <p:nvPr/>
        </p:nvCxnSpPr>
        <p:spPr>
          <a:xfrm flipH="1">
            <a:off x="1640880" y="1717560"/>
            <a:ext cx="6840" cy="10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37" idx="2"/>
            <a:endCxn id="319" idx="0"/>
          </p:cNvCxnSpPr>
          <p:nvPr/>
        </p:nvCxnSpPr>
        <p:spPr>
          <a:xfrm>
            <a:off x="1641240" y="4095720"/>
            <a:ext cx="6840" cy="114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 design docu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39560" y="1680840"/>
            <a:ext cx="91360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eneral architecture for one Cm doma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internal Cm protoc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internal Cm protocol (continue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NameServer databa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Open(Multiple)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NS port handl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S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P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ConnectN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ConnectNewWith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Wa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rations during the CmMessageChe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al structure of a CmMessage obj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476280" y="175248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476280" y="204480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476280" y="233856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476280" y="263052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476280" y="292428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476280" y="321804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476280" y="351000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476280" y="380376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476280" y="438948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476280" y="468324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476280" y="497520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476280" y="5562720"/>
            <a:ext cx="203040" cy="21564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5640"/>
              <a:gd name="textAreaBottom" fmla="*/ 202680 h 215640"/>
            </a:gdLst>
            <a:ahLst/>
            <a:rect l="textAreaLeft" t="textAreaTop" r="textAreaRight" b="textAreaBottom"/>
            <a:pathLst>
              <a:path w="21600" h="22938">
                <a:moveTo>
                  <a:pt x="0" y="0"/>
                </a:moveTo>
                <a:lnTo>
                  <a:pt x="21600" y="0"/>
                </a:lnTo>
                <a:lnTo>
                  <a:pt x="21600" y="22938"/>
                </a:lnTo>
                <a:lnTo>
                  <a:pt x="0" y="22938"/>
                </a:lnTo>
                <a:close/>
              </a:path>
              <a:path fill="lightenLess" w="21600" h="229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8">
                <a:moveTo>
                  <a:pt x="21600" y="0"/>
                </a:moveTo>
                <a:lnTo>
                  <a:pt x="21600" y="22938"/>
                </a:lnTo>
                <a:lnTo>
                  <a:pt x="20200" y="21538"/>
                </a:lnTo>
                <a:lnTo>
                  <a:pt x="20200" y="1400"/>
                </a:lnTo>
                <a:close/>
              </a:path>
              <a:path fill="darkenLess" w="21600" h="22938">
                <a:moveTo>
                  <a:pt x="21600" y="22938"/>
                </a:moveTo>
                <a:lnTo>
                  <a:pt x="0" y="22938"/>
                </a:lnTo>
                <a:lnTo>
                  <a:pt x="1400" y="21538"/>
                </a:lnTo>
                <a:lnTo>
                  <a:pt x="20200" y="21538"/>
                </a:lnTo>
                <a:close/>
              </a:path>
              <a:path fill="lighten" w="21600" h="22938">
                <a:moveTo>
                  <a:pt x="0" y="229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8"/>
                </a:lnTo>
                <a:close/>
              </a:path>
              <a:path fill="darkenLess" w="21600" h="22938">
                <a:moveTo>
                  <a:pt x="5273" y="4654"/>
                </a:moveTo>
                <a:lnTo>
                  <a:pt x="12271" y="4654"/>
                </a:lnTo>
                <a:lnTo>
                  <a:pt x="16327" y="8153"/>
                </a:lnTo>
                <a:lnTo>
                  <a:pt x="16327" y="18284"/>
                </a:lnTo>
                <a:lnTo>
                  <a:pt x="5273" y="18284"/>
                </a:lnTo>
                <a:close/>
              </a:path>
              <a:path fill="darken" w="21600" h="22938">
                <a:moveTo>
                  <a:pt x="12271" y="4654"/>
                </a:moveTo>
                <a:lnTo>
                  <a:pt x="16327" y="8153"/>
                </a:lnTo>
                <a:lnTo>
                  <a:pt x="12271" y="815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476280" y="409572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6280" y="5268960"/>
            <a:ext cx="203040" cy="21600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16000"/>
              <a:gd name="textAreaBottom" fmla="*/ 203040 h 216000"/>
            </a:gdLst>
            <a:ahLst/>
            <a:rect l="textAreaLeft" t="textAreaTop" r="textAreaRight" b="textAreaBottom"/>
            <a:pathLst>
              <a:path w="21600" h="22976">
                <a:moveTo>
                  <a:pt x="0" y="0"/>
                </a:moveTo>
                <a:lnTo>
                  <a:pt x="21600" y="0"/>
                </a:lnTo>
                <a:lnTo>
                  <a:pt x="21600" y="22976"/>
                </a:lnTo>
                <a:lnTo>
                  <a:pt x="0" y="22976"/>
                </a:lnTo>
                <a:close/>
              </a:path>
              <a:path fill="lightenLess" w="21600" h="22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76">
                <a:moveTo>
                  <a:pt x="21600" y="0"/>
                </a:moveTo>
                <a:lnTo>
                  <a:pt x="21600" y="22976"/>
                </a:lnTo>
                <a:lnTo>
                  <a:pt x="20200" y="21576"/>
                </a:lnTo>
                <a:lnTo>
                  <a:pt x="20200" y="1400"/>
                </a:lnTo>
                <a:close/>
              </a:path>
              <a:path fill="darkenLess" w="21600" h="22976">
                <a:moveTo>
                  <a:pt x="21600" y="22976"/>
                </a:moveTo>
                <a:lnTo>
                  <a:pt x="0" y="22976"/>
                </a:lnTo>
                <a:lnTo>
                  <a:pt x="1400" y="21576"/>
                </a:lnTo>
                <a:lnTo>
                  <a:pt x="20200" y="21576"/>
                </a:lnTo>
                <a:close/>
              </a:path>
              <a:path fill="lighten" w="21600" h="22976">
                <a:moveTo>
                  <a:pt x="0" y="22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76"/>
                </a:lnTo>
                <a:close/>
              </a:path>
              <a:path fill="darkenLess" w="21600" h="22976">
                <a:moveTo>
                  <a:pt x="5273" y="4673"/>
                </a:moveTo>
                <a:lnTo>
                  <a:pt x="12271" y="4673"/>
                </a:lnTo>
                <a:lnTo>
                  <a:pt x="16327" y="8172"/>
                </a:lnTo>
                <a:lnTo>
                  <a:pt x="16327" y="18303"/>
                </a:lnTo>
                <a:lnTo>
                  <a:pt x="5273" y="18303"/>
                </a:lnTo>
                <a:close/>
              </a:path>
              <a:path fill="darken" w="21600" h="22976">
                <a:moveTo>
                  <a:pt x="12271" y="4673"/>
                </a:moveTo>
                <a:lnTo>
                  <a:pt x="16327" y="8172"/>
                </a:lnTo>
                <a:lnTo>
                  <a:pt x="12271" y="817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architecture for one Cm doma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24280" y="2473200"/>
            <a:ext cx="1490400" cy="365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90960" y="4842000"/>
            <a:ext cx="9144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Appli. “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42120" y="4749840"/>
            <a:ext cx="914400" cy="549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Appli. “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5880" y="2832120"/>
            <a:ext cx="372960" cy="1996920"/>
          </a:xfrm>
          <a:custGeom>
            <a:avLst/>
            <a:gdLst/>
            <a:ahLst/>
            <a:rect l="l" t="t" r="r" b="b"/>
            <a:pathLst>
              <a:path w="235" h="1258">
                <a:moveTo>
                  <a:pt x="235" y="1258"/>
                </a:moveTo>
                <a:cubicBezTo>
                  <a:pt x="197" y="1164"/>
                  <a:pt x="14" y="906"/>
                  <a:pt x="7" y="696"/>
                </a:cubicBezTo>
                <a:cubicBezTo>
                  <a:pt x="0" y="486"/>
                  <a:pt x="153" y="145"/>
                  <a:pt x="19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2832120"/>
            <a:ext cx="208080" cy="2006640"/>
          </a:xfrm>
          <a:custGeom>
            <a:avLst/>
            <a:gdLst/>
            <a:ahLst/>
            <a:rect l="l" t="t" r="r" b="b"/>
            <a:pathLst>
              <a:path w="131" h="1264">
                <a:moveTo>
                  <a:pt x="16" y="0"/>
                </a:moveTo>
                <a:cubicBezTo>
                  <a:pt x="35" y="99"/>
                  <a:pt x="131" y="381"/>
                  <a:pt x="128" y="592"/>
                </a:cubicBezTo>
                <a:cubicBezTo>
                  <a:pt x="125" y="803"/>
                  <a:pt x="27" y="1124"/>
                  <a:pt x="0" y="12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5360" y="4870440"/>
            <a:ext cx="1427040" cy="154080"/>
          </a:xfrm>
          <a:custGeom>
            <a:avLst/>
            <a:gdLst/>
            <a:ahLst/>
            <a:rect l="l" t="t" r="r" b="b"/>
            <a:pathLst>
              <a:path w="899" h="97">
                <a:moveTo>
                  <a:pt x="0" y="97"/>
                </a:moveTo>
                <a:cubicBezTo>
                  <a:pt x="63" y="82"/>
                  <a:pt x="227" y="8"/>
                  <a:pt x="377" y="4"/>
                </a:cubicBezTo>
                <a:cubicBezTo>
                  <a:pt x="527" y="0"/>
                  <a:pt x="790" y="56"/>
                  <a:pt x="899" y="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05360" y="5076720"/>
            <a:ext cx="1446120" cy="149400"/>
          </a:xfrm>
          <a:custGeom>
            <a:avLst/>
            <a:gdLst/>
            <a:ahLst/>
            <a:rect l="l" t="t" r="r" b="b"/>
            <a:pathLst>
              <a:path w="911" h="94">
                <a:moveTo>
                  <a:pt x="911" y="0"/>
                </a:moveTo>
                <a:cubicBezTo>
                  <a:pt x="828" y="15"/>
                  <a:pt x="565" y="86"/>
                  <a:pt x="413" y="90"/>
                </a:cubicBezTo>
                <a:cubicBezTo>
                  <a:pt x="261" y="94"/>
                  <a:pt x="86" y="38"/>
                  <a:pt x="0" y="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57240" y="3006720"/>
            <a:ext cx="13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Server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GetNewPort NSGet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94040" y="2971800"/>
            <a:ext cx="111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New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5168880"/>
            <a:ext cx="143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ServerInf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5720" y="4816440"/>
            <a:ext cx="1235160" cy="10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Conn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27880" y="4740120"/>
            <a:ext cx="1206360" cy="106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Conn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81160" y="4938840"/>
            <a:ext cx="140040" cy="36360"/>
          </a:xfrm>
          <a:custGeom>
            <a:avLst/>
            <a:gdLst/>
            <a:ahLst/>
            <a:rect l="l" t="t" r="r" b="b"/>
            <a:pathLst>
              <a:path w="220" h="57">
                <a:moveTo>
                  <a:pt x="0" y="17"/>
                </a:moveTo>
                <a:cubicBezTo>
                  <a:pt x="41" y="8"/>
                  <a:pt x="83" y="0"/>
                  <a:pt x="120" y="7"/>
                </a:cubicBezTo>
                <a:cubicBezTo>
                  <a:pt x="157" y="14"/>
                  <a:pt x="203" y="49"/>
                  <a:pt x="220" y="5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46800" y="4917960"/>
            <a:ext cx="177840" cy="63720"/>
          </a:xfrm>
          <a:custGeom>
            <a:avLst/>
            <a:gdLst/>
            <a:ahLst/>
            <a:rect l="l" t="t" r="r" b="b"/>
            <a:pathLst>
              <a:path w="280" h="100">
                <a:moveTo>
                  <a:pt x="0" y="100"/>
                </a:moveTo>
                <a:cubicBezTo>
                  <a:pt x="36" y="60"/>
                  <a:pt x="73" y="20"/>
                  <a:pt x="120" y="10"/>
                </a:cubicBezTo>
                <a:cubicBezTo>
                  <a:pt x="167" y="0"/>
                  <a:pt x="223" y="20"/>
                  <a:pt x="280" y="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68960" y="2425680"/>
            <a:ext cx="1650960" cy="4636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2997360"/>
            <a:ext cx="23972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/virgoData/C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Cascin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*.d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46440" y="3787920"/>
            <a:ext cx="1845000" cy="514080"/>
          </a:xfrm>
          <a:prstGeom prst="wedgeRoundRectCallout">
            <a:avLst>
              <a:gd name="adj1" fmla="val 42944"/>
              <a:gd name="adj2" fmla="val -1450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B area defined in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56480" y="3811680"/>
            <a:ext cx="815760" cy="466560"/>
          </a:xfrm>
          <a:prstGeom prst="wedgeRoundRectCallout">
            <a:avLst>
              <a:gd name="adj1" fmla="val -13425"/>
              <a:gd name="adj2" fmla="val -1710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he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10360" y="3693960"/>
            <a:ext cx="1352880" cy="702000"/>
          </a:xfrm>
          <a:prstGeom prst="wedgeRoundRectCallout">
            <a:avLst>
              <a:gd name="adj1" fmla="val -78171"/>
              <a:gd name="adj2" fmla="val -111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ne file per activ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22680" y="5276880"/>
            <a:ext cx="2143080" cy="449280"/>
          </a:xfrm>
          <a:custGeom>
            <a:avLst/>
            <a:gdLst/>
            <a:ahLst/>
            <a:rect l="l" t="t" r="r" b="b"/>
            <a:pathLst>
              <a:path w="1350" h="283">
                <a:moveTo>
                  <a:pt x="0" y="16"/>
                </a:moveTo>
                <a:cubicBezTo>
                  <a:pt x="67" y="54"/>
                  <a:pt x="247" y="209"/>
                  <a:pt x="402" y="246"/>
                </a:cubicBezTo>
                <a:cubicBezTo>
                  <a:pt x="557" y="283"/>
                  <a:pt x="772" y="281"/>
                  <a:pt x="930" y="240"/>
                </a:cubicBezTo>
                <a:cubicBezTo>
                  <a:pt x="1088" y="199"/>
                  <a:pt x="1262" y="50"/>
                  <a:pt x="13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62200" y="5127480"/>
            <a:ext cx="120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43720" y="5051520"/>
            <a:ext cx="117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7543800" y="256536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8400" y="1030320"/>
            <a:ext cx="5473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Cm domain provides the following constitu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NameServer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database for persistent management of application’s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et of user applications communicating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59" idx="6"/>
            <a:endCxn id="73" idx="2"/>
          </p:cNvCxnSpPr>
          <p:nvPr/>
        </p:nvCxnSpPr>
        <p:spPr>
          <a:xfrm>
            <a:off x="4414320" y="2655360"/>
            <a:ext cx="1755000" cy="25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673200" y="1434960"/>
            <a:ext cx="2171520" cy="1181160"/>
          </a:xfrm>
          <a:custGeom>
            <a:avLst/>
            <a:gdLst/>
            <a:ahLst/>
            <a:rect l="l" t="t" r="r" b="b"/>
            <a:pathLst>
              <a:path w="1368" h="744">
                <a:moveTo>
                  <a:pt x="296" y="0"/>
                </a:moveTo>
                <a:cubicBezTo>
                  <a:pt x="261" y="19"/>
                  <a:pt x="137" y="59"/>
                  <a:pt x="88" y="112"/>
                </a:cubicBezTo>
                <a:cubicBezTo>
                  <a:pt x="39" y="165"/>
                  <a:pt x="0" y="248"/>
                  <a:pt x="0" y="320"/>
                </a:cubicBezTo>
                <a:cubicBezTo>
                  <a:pt x="0" y="392"/>
                  <a:pt x="9" y="480"/>
                  <a:pt x="88" y="544"/>
                </a:cubicBezTo>
                <a:cubicBezTo>
                  <a:pt x="167" y="608"/>
                  <a:pt x="259" y="671"/>
                  <a:pt x="472" y="704"/>
                </a:cubicBezTo>
                <a:cubicBezTo>
                  <a:pt x="685" y="737"/>
                  <a:pt x="1026" y="740"/>
                  <a:pt x="1368" y="744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79960" y="1073160"/>
            <a:ext cx="2284560" cy="1238400"/>
          </a:xfrm>
          <a:custGeom>
            <a:avLst/>
            <a:gdLst/>
            <a:ahLst/>
            <a:rect l="l" t="t" r="r" b="b"/>
            <a:pathLst>
              <a:path w="1439" h="780">
                <a:moveTo>
                  <a:pt x="0" y="308"/>
                </a:moveTo>
                <a:cubicBezTo>
                  <a:pt x="101" y="264"/>
                  <a:pt x="431" y="88"/>
                  <a:pt x="616" y="44"/>
                </a:cubicBezTo>
                <a:cubicBezTo>
                  <a:pt x="801" y="0"/>
                  <a:pt x="988" y="20"/>
                  <a:pt x="1112" y="44"/>
                </a:cubicBezTo>
                <a:cubicBezTo>
                  <a:pt x="1236" y="68"/>
                  <a:pt x="1307" y="119"/>
                  <a:pt x="1360" y="188"/>
                </a:cubicBezTo>
                <a:cubicBezTo>
                  <a:pt x="1413" y="257"/>
                  <a:pt x="1439" y="361"/>
                  <a:pt x="1432" y="460"/>
                </a:cubicBezTo>
                <a:cubicBezTo>
                  <a:pt x="1425" y="559"/>
                  <a:pt x="1343" y="713"/>
                  <a:pt x="1320" y="780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5960" y="2031840"/>
            <a:ext cx="2736720" cy="4229280"/>
          </a:xfrm>
          <a:custGeom>
            <a:avLst/>
            <a:gdLst/>
            <a:ahLst/>
            <a:rect l="l" t="t" r="r" b="b"/>
            <a:pathLst>
              <a:path w="1724" h="2664">
                <a:moveTo>
                  <a:pt x="1260" y="0"/>
                </a:moveTo>
                <a:cubicBezTo>
                  <a:pt x="1139" y="72"/>
                  <a:pt x="724" y="260"/>
                  <a:pt x="532" y="432"/>
                </a:cubicBezTo>
                <a:cubicBezTo>
                  <a:pt x="340" y="604"/>
                  <a:pt x="195" y="823"/>
                  <a:pt x="108" y="1032"/>
                </a:cubicBezTo>
                <a:cubicBezTo>
                  <a:pt x="21" y="1241"/>
                  <a:pt x="0" y="1468"/>
                  <a:pt x="12" y="1688"/>
                </a:cubicBezTo>
                <a:cubicBezTo>
                  <a:pt x="24" y="1908"/>
                  <a:pt x="76" y="2195"/>
                  <a:pt x="180" y="2352"/>
                </a:cubicBezTo>
                <a:cubicBezTo>
                  <a:pt x="284" y="2509"/>
                  <a:pt x="461" y="2600"/>
                  <a:pt x="636" y="2632"/>
                </a:cubicBezTo>
                <a:cubicBezTo>
                  <a:pt x="811" y="2664"/>
                  <a:pt x="1047" y="2625"/>
                  <a:pt x="1228" y="2544"/>
                </a:cubicBezTo>
                <a:cubicBezTo>
                  <a:pt x="1409" y="2463"/>
                  <a:pt x="1621" y="2227"/>
                  <a:pt x="1724" y="2144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Cm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0560" y="571680"/>
            <a:ext cx="891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section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describes the Cm messages internally used by the Cm package, listed by their types, either between applications and the NameServer or between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41200" y="1181160"/>
            <a:ext cx="9220320" cy="1409760"/>
            <a:chOff x="241200" y="1181160"/>
            <a:chExt cx="9220320" cy="1409760"/>
          </a:xfrm>
        </p:grpSpPr>
        <p:sp>
          <p:nvSpPr>
            <p:cNvPr id="90" name=""/>
            <p:cNvSpPr/>
            <p:nvPr/>
          </p:nvSpPr>
          <p:spPr>
            <a:xfrm>
              <a:off x="241200" y="173340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mServerInf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95400" y="1474920"/>
              <a:ext cx="459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ny application willing to establish a connection towards another application first sends this message to it. No answer is expected from it except for the NameServer which returns a NSPort messag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70800" y="1181160"/>
              <a:ext cx="2790720" cy="140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protocol_ver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host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port_num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is_multip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ow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41200" y="2836800"/>
            <a:ext cx="8560080" cy="1189080"/>
            <a:chOff x="241200" y="2836800"/>
            <a:chExt cx="8560080" cy="1189080"/>
          </a:xfrm>
        </p:grpSpPr>
        <p:sp>
          <p:nvSpPr>
            <p:cNvPr id="94" name=""/>
            <p:cNvSpPr/>
            <p:nvPr/>
          </p:nvSpPr>
          <p:spPr>
            <a:xfrm>
              <a:off x="241200" y="327816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97200" y="2836800"/>
              <a:ext cx="45939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he NameServer just accepted a connection from a new application (using CmMessageOpenServer or CmMessageOpenMultipleServer). It allocates a new port number and sends it back to the application. In addition, and only for </a:t>
              </a:r>
              <a:r>
                <a:rPr b="0" i="1" lang="en-GB" sz="1200" spc="-1" strike="noStrike">
                  <a:solidFill>
                    <a:srgbClr val="000000"/>
                  </a:solidFill>
                  <a:latin typeface="Arial"/>
                </a:rPr>
                <a:t>multiple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servers, the effective application name (including the suffix </a:t>
              </a: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_&lt;n&gt;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will be sent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70800" y="2960640"/>
              <a:ext cx="2130480" cy="93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original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allocated_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new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9055080" y="570240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41200" y="4270320"/>
            <a:ext cx="8724960" cy="824040"/>
            <a:chOff x="241200" y="4270320"/>
            <a:chExt cx="8724960" cy="824040"/>
          </a:xfrm>
        </p:grpSpPr>
        <p:sp>
          <p:nvSpPr>
            <p:cNvPr id="99" name=""/>
            <p:cNvSpPr/>
            <p:nvPr/>
          </p:nvSpPr>
          <p:spPr>
            <a:xfrm>
              <a:off x="241200" y="452880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GetNew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97200" y="4270320"/>
              <a:ext cx="4593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n application just tried to bind to a port number (previously proposed by the NameServer). But this port number is not available. The application sends back this message to the NameServer so as to obtain another port numb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70800" y="4428720"/>
              <a:ext cx="2295360" cy="49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connection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41200" y="5340240"/>
            <a:ext cx="8724960" cy="717840"/>
            <a:chOff x="241200" y="5340240"/>
            <a:chExt cx="8724960" cy="717840"/>
          </a:xfrm>
        </p:grpSpPr>
        <p:sp>
          <p:nvSpPr>
            <p:cNvPr id="103" name=""/>
            <p:cNvSpPr/>
            <p:nvPr/>
          </p:nvSpPr>
          <p:spPr>
            <a:xfrm>
              <a:off x="241200" y="5548320"/>
              <a:ext cx="15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SNew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97200" y="5472000"/>
              <a:ext cx="459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he NameServer sends back to the application another port number after a bind failur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70800" y="5340240"/>
              <a:ext cx="2295360" cy="71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string connection_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new_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urier New"/>
                </a:rPr>
                <a:t>int    transaction_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6515280" y="203040"/>
            <a:ext cx="228600" cy="241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41560"/>
              <a:gd name="textAreaBottom" fmla="*/ 226800 h 241560"/>
            </a:gdLst>
            <a:ahLst/>
            <a:rect l="textAreaLeft" t="textAreaTop" r="textAreaRight" b="textAreaBottom"/>
            <a:pathLst>
              <a:path w="21600" h="22823">
                <a:moveTo>
                  <a:pt x="0" y="0"/>
                </a:moveTo>
                <a:lnTo>
                  <a:pt x="21600" y="0"/>
                </a:lnTo>
                <a:lnTo>
                  <a:pt x="21600" y="22823"/>
                </a:lnTo>
                <a:lnTo>
                  <a:pt x="0" y="22823"/>
                </a:lnTo>
                <a:close/>
              </a:path>
              <a:path fill="lightenLess" w="21600" h="228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23">
                <a:moveTo>
                  <a:pt x="21600" y="0"/>
                </a:moveTo>
                <a:lnTo>
                  <a:pt x="21600" y="22823"/>
                </a:lnTo>
                <a:lnTo>
                  <a:pt x="20200" y="21423"/>
                </a:lnTo>
                <a:lnTo>
                  <a:pt x="20200" y="1400"/>
                </a:lnTo>
                <a:close/>
              </a:path>
              <a:path fill="darkenLess" w="21600" h="22823">
                <a:moveTo>
                  <a:pt x="21600" y="22823"/>
                </a:moveTo>
                <a:lnTo>
                  <a:pt x="0" y="22823"/>
                </a:lnTo>
                <a:lnTo>
                  <a:pt x="1400" y="21423"/>
                </a:lnTo>
                <a:lnTo>
                  <a:pt x="20200" y="21423"/>
                </a:lnTo>
                <a:close/>
              </a:path>
              <a:path fill="lighten" w="21600" h="22823">
                <a:moveTo>
                  <a:pt x="0" y="228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23"/>
                </a:lnTo>
                <a:close/>
              </a:path>
              <a:path fill="darken" w="21600" h="22823">
                <a:moveTo>
                  <a:pt x="3794" y="4405"/>
                </a:moveTo>
                <a:lnTo>
                  <a:pt x="17806" y="11411"/>
                </a:lnTo>
                <a:lnTo>
                  <a:pt x="3794" y="1841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Cm protocol (continu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200" y="174636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SGet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3320" y="1577880"/>
            <a:ext cx="4581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application wishes to open a new connection towards another application. It first sends this message to the NameServer, which in turn will answer using the NSAddress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70800" y="1486080"/>
            <a:ext cx="2143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transaction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1200" y="308448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S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9800" y="3008160"/>
            <a:ext cx="456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Server sends this message as an answer to the NSGetAddress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70800" y="2468520"/>
            <a:ext cx="2193840" cy="153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host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port_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is_mult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tring ow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nt transaction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2577960" y="228600"/>
            <a:ext cx="241560" cy="241200"/>
          </a:xfrm>
          <a:custGeom>
            <a:avLst/>
            <a:gdLst>
              <a:gd name="textAreaLeft" fmla="*/ 15480 w 241560"/>
              <a:gd name="textAreaRight" fmla="*/ 226080 w 241560"/>
              <a:gd name="textAreaTop" fmla="*/ 15480 h 241200"/>
              <a:gd name="textAreaBottom" fmla="*/ 225720 h 241200"/>
            </a:gdLst>
            <a:ahLst/>
            <a:rect l="textAreaLeft" t="textAreaTop" r="textAreaRight" b="textAreaBottom"/>
            <a:pathLst>
              <a:path w="21632" h="21600">
                <a:moveTo>
                  <a:pt x="0" y="0"/>
                </a:moveTo>
                <a:lnTo>
                  <a:pt x="21632" y="0"/>
                </a:lnTo>
                <a:lnTo>
                  <a:pt x="21632" y="21600"/>
                </a:lnTo>
                <a:lnTo>
                  <a:pt x="0" y="21600"/>
                </a:lnTo>
                <a:close/>
              </a:path>
              <a:path fill="lightenLess" w="21632" h="21600">
                <a:moveTo>
                  <a:pt x="0" y="0"/>
                </a:moveTo>
                <a:lnTo>
                  <a:pt x="21632" y="0"/>
                </a:lnTo>
                <a:lnTo>
                  <a:pt x="20232" y="1400"/>
                </a:lnTo>
                <a:lnTo>
                  <a:pt x="1400" y="1400"/>
                </a:lnTo>
                <a:close/>
              </a:path>
              <a:path fill="darken" w="21632" h="21600">
                <a:moveTo>
                  <a:pt x="21632" y="0"/>
                </a:moveTo>
                <a:lnTo>
                  <a:pt x="21632" y="21600"/>
                </a:lnTo>
                <a:lnTo>
                  <a:pt x="20232" y="20200"/>
                </a:lnTo>
                <a:lnTo>
                  <a:pt x="20232" y="1400"/>
                </a:lnTo>
                <a:close/>
              </a:path>
              <a:path fill="darkenLess" w="21632" h="21600">
                <a:moveTo>
                  <a:pt x="21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2" y="20200"/>
                </a:lnTo>
                <a:close/>
              </a:path>
              <a:path fill="lighten" w="21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2" h="21600">
                <a:moveTo>
                  <a:pt x="3810" y="10800"/>
                </a:moveTo>
                <a:lnTo>
                  <a:pt x="17823" y="3794"/>
                </a:lnTo>
                <a:lnTo>
                  <a:pt x="1782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ameServer datab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9560" y="474840"/>
            <a:ext cx="9136080" cy="57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database files are named with the application’s name and suffixed with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.dat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 They h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ternet address and the port number allocated to th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of the user who launched th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ach database file is renamed with the suffix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.bck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when the application di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38200" y="2930400"/>
            <a:ext cx="1490760" cy="365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48200" y="2895480"/>
            <a:ext cx="1650960" cy="4636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21040" y="2987640"/>
            <a:ext cx="1120680" cy="130320"/>
          </a:xfrm>
          <a:custGeom>
            <a:avLst/>
            <a:gdLst/>
            <a:ahLst/>
            <a:rect l="l" t="t" r="r" b="b"/>
            <a:pathLst>
              <a:path w="706" h="82">
                <a:moveTo>
                  <a:pt x="0" y="68"/>
                </a:moveTo>
                <a:cubicBezTo>
                  <a:pt x="64" y="57"/>
                  <a:pt x="266" y="0"/>
                  <a:pt x="384" y="2"/>
                </a:cubicBezTo>
                <a:cubicBezTo>
                  <a:pt x="502" y="4"/>
                  <a:pt x="639" y="65"/>
                  <a:pt x="706" y="8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3392640"/>
            <a:ext cx="35910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g: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/virgoData/C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Cascin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*.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25680" y="4165560"/>
            <a:ext cx="1844640" cy="514440"/>
          </a:xfrm>
          <a:prstGeom prst="wedgeRoundRectCallout">
            <a:avLst>
              <a:gd name="adj1" fmla="val 29175"/>
              <a:gd name="adj2" fmla="val -1401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B area defined in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84600" y="4165560"/>
            <a:ext cx="816120" cy="466920"/>
          </a:xfrm>
          <a:prstGeom prst="wedgeRoundRectCallout">
            <a:avLst>
              <a:gd name="adj1" fmla="val -10310"/>
              <a:gd name="adj2" fmla="val -14931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The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89600" y="4165560"/>
            <a:ext cx="1352520" cy="701640"/>
          </a:xfrm>
          <a:prstGeom prst="wedgeRoundRectCallout">
            <a:avLst>
              <a:gd name="adj1" fmla="val -70657"/>
              <a:gd name="adj2" fmla="val -11923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ne file per activ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590920"/>
            <a:ext cx="3098520" cy="8240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ort 24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host virgo.lal.in2p3.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wner manso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9055080" y="5702400"/>
            <a:ext cx="304920" cy="2793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74" h="21600">
                <a:moveTo>
                  <a:pt x="0" y="0"/>
                </a:moveTo>
                <a:lnTo>
                  <a:pt x="23574" y="0"/>
                </a:lnTo>
                <a:lnTo>
                  <a:pt x="23574" y="21600"/>
                </a:lnTo>
                <a:lnTo>
                  <a:pt x="0" y="21600"/>
                </a:lnTo>
                <a:close/>
              </a:path>
              <a:path fill="lightenLess" w="23574" h="21600">
                <a:moveTo>
                  <a:pt x="0" y="0"/>
                </a:moveTo>
                <a:lnTo>
                  <a:pt x="23574" y="0"/>
                </a:lnTo>
                <a:lnTo>
                  <a:pt x="22174" y="1400"/>
                </a:lnTo>
                <a:lnTo>
                  <a:pt x="1400" y="1400"/>
                </a:lnTo>
                <a:close/>
              </a:path>
              <a:path fill="darken" w="23574" h="21600">
                <a:moveTo>
                  <a:pt x="23574" y="0"/>
                </a:moveTo>
                <a:lnTo>
                  <a:pt x="23574" y="21600"/>
                </a:lnTo>
                <a:lnTo>
                  <a:pt x="22174" y="20200"/>
                </a:lnTo>
                <a:lnTo>
                  <a:pt x="22174" y="1400"/>
                </a:lnTo>
                <a:close/>
              </a:path>
              <a:path fill="darkenLess" w="23574" h="21600">
                <a:moveTo>
                  <a:pt x="23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4" y="20200"/>
                </a:lnTo>
                <a:close/>
              </a:path>
              <a:path fill="lighten" w="23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4" h="21600">
                <a:moveTo>
                  <a:pt x="4780" y="7493"/>
                </a:moveTo>
                <a:lnTo>
                  <a:pt x="8288" y="7493"/>
                </a:lnTo>
                <a:lnTo>
                  <a:pt x="8288" y="12828"/>
                </a:lnTo>
                <a:cubicBezTo>
                  <a:pt x="8288" y="13751"/>
                  <a:pt x="9089" y="14482"/>
                  <a:pt x="10124" y="14482"/>
                </a:cubicBezTo>
                <a:lnTo>
                  <a:pt x="11787" y="14482"/>
                </a:lnTo>
                <a:cubicBezTo>
                  <a:pt x="12823" y="14482"/>
                  <a:pt x="13623" y="13751"/>
                  <a:pt x="13623" y="12828"/>
                </a:cubicBezTo>
                <a:lnTo>
                  <a:pt x="13623" y="7493"/>
                </a:lnTo>
                <a:lnTo>
                  <a:pt x="11787" y="7493"/>
                </a:lnTo>
                <a:lnTo>
                  <a:pt x="15294" y="3985"/>
                </a:lnTo>
                <a:lnTo>
                  <a:pt x="18967" y="7493"/>
                </a:lnTo>
                <a:lnTo>
                  <a:pt x="17131" y="7493"/>
                </a:lnTo>
                <a:lnTo>
                  <a:pt x="17131" y="12828"/>
                </a:lnTo>
                <a:cubicBezTo>
                  <a:pt x="17131" y="15596"/>
                  <a:pt x="14555" y="18155"/>
                  <a:pt x="11787" y="18155"/>
                </a:cubicBezTo>
                <a:lnTo>
                  <a:pt x="10124" y="18155"/>
                </a:lnTo>
                <a:cubicBezTo>
                  <a:pt x="7357" y="18155"/>
                  <a:pt x="4780" y="15596"/>
                  <a:pt x="478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rations during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mMessageOpen(Multiple)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78280" y="844560"/>
            <a:ext cx="21495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Cm initialis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16080" y="1468440"/>
            <a:ext cx="38721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ax checking on the application’s proposed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25920" y="2063880"/>
            <a:ext cx="26542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the current hos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11320" y="2687760"/>
            <a:ext cx="588348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mConnect object and its associated socket for the handing of acce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22680" y="3321000"/>
            <a:ext cx="44622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ing a transaction for the connection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21000" y="3963960"/>
            <a:ext cx="326412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6480" y="4597560"/>
            <a:ext cx="341460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ing for a port number from the Name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8280" y="5221440"/>
            <a:ext cx="214956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the TCP b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56120" y="5845320"/>
            <a:ext cx="359568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 ConnectionHandler when  regis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11113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170172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23590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298764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36352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23540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48736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550224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24640" y="660240"/>
            <a:ext cx="1673280" cy="304920"/>
          </a:xfrm>
          <a:prstGeom prst="wedgeRoundRectCallout">
            <a:avLst>
              <a:gd name="adj1" fmla="val -85296"/>
              <a:gd name="adj2" fmla="val 437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nce per r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96160" y="1936800"/>
            <a:ext cx="2263680" cy="533520"/>
          </a:xfrm>
          <a:prstGeom prst="wedgeRoundRectCallout">
            <a:avLst>
              <a:gd name="adj1" fmla="val -81976"/>
              <a:gd name="adj2" fmla="val -4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On OS9 the env. variable MYHOST is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4657680"/>
            <a:ext cx="1731960" cy="453960"/>
          </a:xfrm>
          <a:custGeom>
            <a:avLst/>
            <a:gdLst/>
            <a:ahLst/>
            <a:rect l="l" t="t" r="r" b="b"/>
            <a:pathLst>
              <a:path w="2727" h="717">
                <a:moveTo>
                  <a:pt x="2605" y="357"/>
                </a:moveTo>
                <a:cubicBezTo>
                  <a:pt x="2563" y="404"/>
                  <a:pt x="2727" y="597"/>
                  <a:pt x="2350" y="642"/>
                </a:cubicBezTo>
                <a:cubicBezTo>
                  <a:pt x="1973" y="687"/>
                  <a:pt x="680" y="717"/>
                  <a:pt x="340" y="627"/>
                </a:cubicBezTo>
                <a:cubicBezTo>
                  <a:pt x="0" y="537"/>
                  <a:pt x="138" y="204"/>
                  <a:pt x="310" y="102"/>
                </a:cubicBezTo>
                <a:cubicBezTo>
                  <a:pt x="482" y="0"/>
                  <a:pt x="1153" y="31"/>
                  <a:pt x="1375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86440" y="156852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10480" y="1279440"/>
            <a:ext cx="12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21680" y="3730680"/>
            <a:ext cx="1447560" cy="434880"/>
          </a:xfrm>
          <a:prstGeom prst="wedgeRoundRectCallout">
            <a:avLst>
              <a:gd name="adj1" fmla="val -111185"/>
              <a:gd name="adj2" fmla="val 22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3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91360" y="4613400"/>
            <a:ext cx="2057400" cy="961920"/>
          </a:xfrm>
          <a:prstGeom prst="wedgeRoundRectCallout">
            <a:avLst>
              <a:gd name="adj1" fmla="val -80708"/>
              <a:gd name="adj2" fmla="val -3812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      below on NSPort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nd diagram       on Wait op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74880" y="5276880"/>
            <a:ext cx="2066760" cy="501480"/>
          </a:xfrm>
          <a:prstGeom prst="wedgeRoundRectCallout">
            <a:avLst>
              <a:gd name="adj1" fmla="val 32333"/>
              <a:gd name="adj2" fmla="val -10949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Retry using a NSGetNewPort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8458200" y="379728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8369280" y="4673520"/>
            <a:ext cx="177840" cy="20340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400"/>
              <a:gd name="textAreaBottom" fmla="*/ 191880 h 203400"/>
            </a:gdLst>
            <a:ahLst/>
            <a:rect l="textAreaLeft" t="textAreaTop" r="textAreaRight" b="textAreaBottom"/>
            <a:pathLst>
              <a:path w="21600" h="24698">
                <a:moveTo>
                  <a:pt x="0" y="0"/>
                </a:moveTo>
                <a:lnTo>
                  <a:pt x="21600" y="0"/>
                </a:lnTo>
                <a:lnTo>
                  <a:pt x="21600" y="24698"/>
                </a:lnTo>
                <a:lnTo>
                  <a:pt x="0" y="24698"/>
                </a:lnTo>
                <a:close/>
              </a:path>
              <a:path fill="lightenLess" w="21600" h="246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8">
                <a:moveTo>
                  <a:pt x="21600" y="0"/>
                </a:moveTo>
                <a:lnTo>
                  <a:pt x="21600" y="24698"/>
                </a:lnTo>
                <a:lnTo>
                  <a:pt x="20200" y="23298"/>
                </a:lnTo>
                <a:lnTo>
                  <a:pt x="20200" y="1400"/>
                </a:lnTo>
                <a:close/>
              </a:path>
              <a:path fill="darkenLess" w="21600" h="24698">
                <a:moveTo>
                  <a:pt x="21600" y="24698"/>
                </a:moveTo>
                <a:lnTo>
                  <a:pt x="0" y="24698"/>
                </a:lnTo>
                <a:lnTo>
                  <a:pt x="1400" y="23298"/>
                </a:lnTo>
                <a:lnTo>
                  <a:pt x="20200" y="23298"/>
                </a:lnTo>
                <a:close/>
              </a:path>
              <a:path fill="lighten" w="21600" h="24698">
                <a:moveTo>
                  <a:pt x="0" y="246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8"/>
                </a:lnTo>
                <a:close/>
              </a:path>
              <a:path fill="darkenLess" w="21600" h="24698">
                <a:moveTo>
                  <a:pt x="5273" y="5534"/>
                </a:moveTo>
                <a:lnTo>
                  <a:pt x="12271" y="5534"/>
                </a:lnTo>
                <a:lnTo>
                  <a:pt x="16327" y="9033"/>
                </a:lnTo>
                <a:lnTo>
                  <a:pt x="16327" y="19164"/>
                </a:lnTo>
                <a:lnTo>
                  <a:pt x="5273" y="19164"/>
                </a:lnTo>
                <a:close/>
              </a:path>
              <a:path fill="darken" w="21600" h="24698">
                <a:moveTo>
                  <a:pt x="12271" y="5534"/>
                </a:moveTo>
                <a:lnTo>
                  <a:pt x="16327" y="9033"/>
                </a:lnTo>
                <a:lnTo>
                  <a:pt x="12271" y="903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1257480" y="5207040"/>
            <a:ext cx="215640" cy="2412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41200"/>
              <a:gd name="textAreaBottom" fmla="*/ 227520 h 241200"/>
            </a:gdLst>
            <a:ahLst/>
            <a:rect l="textAreaLeft" t="textAreaTop" r="textAreaRight" b="textAreaBottom"/>
            <a:pathLst>
              <a:path w="21600" h="24156">
                <a:moveTo>
                  <a:pt x="0" y="0"/>
                </a:moveTo>
                <a:lnTo>
                  <a:pt x="21600" y="0"/>
                </a:lnTo>
                <a:lnTo>
                  <a:pt x="21600" y="24156"/>
                </a:lnTo>
                <a:lnTo>
                  <a:pt x="0" y="24156"/>
                </a:lnTo>
                <a:close/>
              </a:path>
              <a:path fill="lightenLess" w="21600" h="241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56">
                <a:moveTo>
                  <a:pt x="21600" y="0"/>
                </a:moveTo>
                <a:lnTo>
                  <a:pt x="21600" y="24156"/>
                </a:lnTo>
                <a:lnTo>
                  <a:pt x="20200" y="22756"/>
                </a:lnTo>
                <a:lnTo>
                  <a:pt x="20200" y="1400"/>
                </a:lnTo>
                <a:close/>
              </a:path>
              <a:path fill="darkenLess" w="21600" h="24156">
                <a:moveTo>
                  <a:pt x="21600" y="24156"/>
                </a:moveTo>
                <a:lnTo>
                  <a:pt x="0" y="24156"/>
                </a:lnTo>
                <a:lnTo>
                  <a:pt x="1400" y="22756"/>
                </a:lnTo>
                <a:lnTo>
                  <a:pt x="20200" y="22756"/>
                </a:lnTo>
                <a:close/>
              </a:path>
              <a:path fill="lighten" w="21600" h="24156">
                <a:moveTo>
                  <a:pt x="0" y="241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56"/>
                </a:lnTo>
                <a:close/>
              </a:path>
              <a:path fill="darkenLess" w="21600" h="24156">
                <a:moveTo>
                  <a:pt x="5273" y="5263"/>
                </a:moveTo>
                <a:lnTo>
                  <a:pt x="12271" y="5263"/>
                </a:lnTo>
                <a:lnTo>
                  <a:pt x="16327" y="8762"/>
                </a:lnTo>
                <a:lnTo>
                  <a:pt x="16327" y="18893"/>
                </a:lnTo>
                <a:lnTo>
                  <a:pt x="5273" y="18893"/>
                </a:lnTo>
                <a:close/>
              </a:path>
              <a:path fill="darken" w="21600" h="24156">
                <a:moveTo>
                  <a:pt x="12271" y="5263"/>
                </a:moveTo>
                <a:lnTo>
                  <a:pt x="16327" y="8762"/>
                </a:lnTo>
                <a:lnTo>
                  <a:pt x="12271" y="876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8305920" y="5054760"/>
            <a:ext cx="177840" cy="203040"/>
          </a:xfrm>
          <a:custGeom>
            <a:avLst/>
            <a:gdLst>
              <a:gd name="textAreaLeft" fmla="*/ 11520 w 177840"/>
              <a:gd name="textAreaRight" fmla="*/ 166320 w 177840"/>
              <a:gd name="textAreaTop" fmla="*/ 11520 h 203040"/>
              <a:gd name="textAreaBottom" fmla="*/ 191520 h 203040"/>
            </a:gdLst>
            <a:ahLst/>
            <a:rect l="textAreaLeft" t="textAreaTop" r="textAreaRight" b="textAreaBottom"/>
            <a:pathLst>
              <a:path w="21600" h="24655">
                <a:moveTo>
                  <a:pt x="0" y="0"/>
                </a:moveTo>
                <a:lnTo>
                  <a:pt x="21600" y="0"/>
                </a:lnTo>
                <a:lnTo>
                  <a:pt x="21600" y="24655"/>
                </a:lnTo>
                <a:lnTo>
                  <a:pt x="0" y="24655"/>
                </a:lnTo>
                <a:close/>
              </a:path>
              <a:path fill="lightenLess" w="21600" h="246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55">
                <a:moveTo>
                  <a:pt x="21600" y="0"/>
                </a:moveTo>
                <a:lnTo>
                  <a:pt x="21600" y="24655"/>
                </a:lnTo>
                <a:lnTo>
                  <a:pt x="20200" y="23255"/>
                </a:lnTo>
                <a:lnTo>
                  <a:pt x="20200" y="1400"/>
                </a:lnTo>
                <a:close/>
              </a:path>
              <a:path fill="darkenLess" w="21600" h="24655">
                <a:moveTo>
                  <a:pt x="21600" y="24655"/>
                </a:moveTo>
                <a:lnTo>
                  <a:pt x="0" y="24655"/>
                </a:lnTo>
                <a:lnTo>
                  <a:pt x="1400" y="23255"/>
                </a:lnTo>
                <a:lnTo>
                  <a:pt x="20200" y="23255"/>
                </a:lnTo>
                <a:close/>
              </a:path>
              <a:path fill="lighten" w="21600" h="24655">
                <a:moveTo>
                  <a:pt x="0" y="246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55"/>
                </a:lnTo>
                <a:close/>
              </a:path>
              <a:path fill="darkenLess" w="21600" h="24655">
                <a:moveTo>
                  <a:pt x="5273" y="5512"/>
                </a:moveTo>
                <a:lnTo>
                  <a:pt x="12271" y="5512"/>
                </a:lnTo>
                <a:lnTo>
                  <a:pt x="16327" y="9011"/>
                </a:lnTo>
                <a:lnTo>
                  <a:pt x="16327" y="19142"/>
                </a:lnTo>
                <a:lnTo>
                  <a:pt x="5273" y="19142"/>
                </a:lnTo>
                <a:close/>
              </a:path>
              <a:path fill="darken" w="21600" h="24655">
                <a:moveTo>
                  <a:pt x="12271" y="5512"/>
                </a:moveTo>
                <a:lnTo>
                  <a:pt x="16327" y="9011"/>
                </a:lnTo>
                <a:lnTo>
                  <a:pt x="12271" y="901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640" y="83520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6" idx="3"/>
            <a:endCxn id="127" idx="1"/>
          </p:cNvCxnSpPr>
          <p:nvPr/>
        </p:nvCxnSpPr>
        <p:spPr>
          <a:xfrm>
            <a:off x="2227320" y="972720"/>
            <a:ext cx="165168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tting up the connection to the Name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14440" y="1616040"/>
            <a:ext cx="40770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NameServer infos from the CmDomain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52520" y="2473200"/>
            <a:ext cx="42008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onnection using the NameServer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52760" y="1873080"/>
            <a:ext cx="0" cy="5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1990800"/>
            <a:ext cx="2330640" cy="561960"/>
          </a:xfrm>
          <a:prstGeom prst="wedgeRoundRectCallout">
            <a:avLst>
              <a:gd name="adj1" fmla="val -65259"/>
              <a:gd name="adj2" fmla="val 5734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See diagram 7 CmConnectNewWith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8128080" y="1930320"/>
            <a:ext cx="241200" cy="292320"/>
          </a:xfrm>
          <a:custGeom>
            <a:avLst/>
            <a:gdLst>
              <a:gd name="textAreaLeft" fmla="*/ 15480 w 241200"/>
              <a:gd name="textAreaRight" fmla="*/ 225720 w 241200"/>
              <a:gd name="textAreaTop" fmla="*/ 15480 h 292320"/>
              <a:gd name="textAreaBottom" fmla="*/ 276840 h 292320"/>
            </a:gdLst>
            <a:ahLst/>
            <a:rect l="textAreaLeft" t="textAreaTop" r="textAreaRight" b="textAreaBottom"/>
            <a:pathLst>
              <a:path w="21600" h="26171">
                <a:moveTo>
                  <a:pt x="0" y="0"/>
                </a:moveTo>
                <a:lnTo>
                  <a:pt x="21600" y="0"/>
                </a:lnTo>
                <a:lnTo>
                  <a:pt x="21600" y="26171"/>
                </a:lnTo>
                <a:lnTo>
                  <a:pt x="0" y="26171"/>
                </a:lnTo>
                <a:close/>
              </a:path>
              <a:path fill="lightenLess" w="21600" h="261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71">
                <a:moveTo>
                  <a:pt x="21600" y="0"/>
                </a:moveTo>
                <a:lnTo>
                  <a:pt x="21600" y="26171"/>
                </a:lnTo>
                <a:lnTo>
                  <a:pt x="20200" y="24771"/>
                </a:lnTo>
                <a:lnTo>
                  <a:pt x="20200" y="1400"/>
                </a:lnTo>
                <a:close/>
              </a:path>
              <a:path fill="darkenLess" w="21600" h="26171">
                <a:moveTo>
                  <a:pt x="21600" y="26171"/>
                </a:moveTo>
                <a:lnTo>
                  <a:pt x="0" y="26171"/>
                </a:lnTo>
                <a:lnTo>
                  <a:pt x="1400" y="24771"/>
                </a:lnTo>
                <a:lnTo>
                  <a:pt x="20200" y="24771"/>
                </a:lnTo>
                <a:close/>
              </a:path>
              <a:path fill="lighten" w="21600" h="26171">
                <a:moveTo>
                  <a:pt x="0" y="261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71"/>
                </a:lnTo>
                <a:close/>
              </a:path>
              <a:path fill="darkenLess" w="21600" h="26171">
                <a:moveTo>
                  <a:pt x="5273" y="6271"/>
                </a:moveTo>
                <a:lnTo>
                  <a:pt x="12271" y="6271"/>
                </a:lnTo>
                <a:lnTo>
                  <a:pt x="16327" y="9769"/>
                </a:lnTo>
                <a:lnTo>
                  <a:pt x="16327" y="19901"/>
                </a:lnTo>
                <a:lnTo>
                  <a:pt x="5273" y="19901"/>
                </a:lnTo>
                <a:close/>
              </a:path>
              <a:path fill="darken" w="21600" h="26171">
                <a:moveTo>
                  <a:pt x="12271" y="6271"/>
                </a:moveTo>
                <a:lnTo>
                  <a:pt x="16327" y="9769"/>
                </a:lnTo>
                <a:lnTo>
                  <a:pt x="12271" y="976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9680" y="158760"/>
            <a:ext cx="842004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S port hand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89120" y="2527200"/>
            <a:ext cx="43149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allocated port number and new name from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78120" y="4476600"/>
            <a:ext cx="213516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the 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38960" y="1565280"/>
            <a:ext cx="2520720" cy="733320"/>
          </a:xfrm>
          <a:prstGeom prst="wedgeRoundRectCallout">
            <a:avLst>
              <a:gd name="adj1" fmla="val -68893"/>
              <a:gd name="adj2" fmla="val 10411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tring original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int    allocated_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string new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8763120" y="5651640"/>
            <a:ext cx="304560" cy="2793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79360"/>
              <a:gd name="textAreaBottom" fmla="*/ 261360 h 279360"/>
            </a:gdLst>
            <a:ahLst/>
            <a:rect l="textAreaLeft" t="textAreaTop" r="textAreaRight" b="textAreaBottom"/>
            <a:pathLst>
              <a:path w="23546" h="21600">
                <a:moveTo>
                  <a:pt x="0" y="0"/>
                </a:moveTo>
                <a:lnTo>
                  <a:pt x="23546" y="0"/>
                </a:lnTo>
                <a:lnTo>
                  <a:pt x="23546" y="21600"/>
                </a:lnTo>
                <a:lnTo>
                  <a:pt x="0" y="21600"/>
                </a:lnTo>
                <a:close/>
              </a:path>
              <a:path fill="lightenLess" w="23546" h="21600">
                <a:moveTo>
                  <a:pt x="0" y="0"/>
                </a:moveTo>
                <a:lnTo>
                  <a:pt x="23546" y="0"/>
                </a:lnTo>
                <a:lnTo>
                  <a:pt x="22146" y="1400"/>
                </a:lnTo>
                <a:lnTo>
                  <a:pt x="1400" y="1400"/>
                </a:lnTo>
                <a:close/>
              </a:path>
              <a:path fill="darken" w="23546" h="21600">
                <a:moveTo>
                  <a:pt x="23546" y="0"/>
                </a:moveTo>
                <a:lnTo>
                  <a:pt x="23546" y="21600"/>
                </a:lnTo>
                <a:lnTo>
                  <a:pt x="22146" y="20200"/>
                </a:lnTo>
                <a:lnTo>
                  <a:pt x="22146" y="1400"/>
                </a:lnTo>
                <a:close/>
              </a:path>
              <a:path fill="darkenLess" w="23546" h="21600">
                <a:moveTo>
                  <a:pt x="2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6" y="20200"/>
                </a:lnTo>
                <a:close/>
              </a:path>
              <a:path fill="lighten" w="2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6" h="21600">
                <a:moveTo>
                  <a:pt x="4766" y="7493"/>
                </a:moveTo>
                <a:lnTo>
                  <a:pt x="8274" y="7493"/>
                </a:lnTo>
                <a:lnTo>
                  <a:pt x="8274" y="12828"/>
                </a:lnTo>
                <a:cubicBezTo>
                  <a:pt x="8274" y="13751"/>
                  <a:pt x="9075" y="14482"/>
                  <a:pt x="10111" y="14482"/>
                </a:cubicBezTo>
                <a:lnTo>
                  <a:pt x="11773" y="14482"/>
                </a:lnTo>
                <a:cubicBezTo>
                  <a:pt x="12809" y="14482"/>
                  <a:pt x="13609" y="13751"/>
                  <a:pt x="13609" y="12828"/>
                </a:cubicBezTo>
                <a:lnTo>
                  <a:pt x="13609" y="7493"/>
                </a:lnTo>
                <a:lnTo>
                  <a:pt x="11773" y="7493"/>
                </a:lnTo>
                <a:lnTo>
                  <a:pt x="15281" y="3985"/>
                </a:lnTo>
                <a:lnTo>
                  <a:pt x="18954" y="7493"/>
                </a:lnTo>
                <a:lnTo>
                  <a:pt x="17117" y="7493"/>
                </a:lnTo>
                <a:lnTo>
                  <a:pt x="17117" y="12828"/>
                </a:lnTo>
                <a:cubicBezTo>
                  <a:pt x="17117" y="15596"/>
                  <a:pt x="14541" y="18155"/>
                  <a:pt x="11773" y="18155"/>
                </a:cubicBezTo>
                <a:lnTo>
                  <a:pt x="10111" y="18155"/>
                </a:lnTo>
                <a:cubicBezTo>
                  <a:pt x="7343" y="18155"/>
                  <a:pt x="4766" y="15596"/>
                  <a:pt x="476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77880" y="3502080"/>
            <a:ext cx="453564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 port number and new name to the CmConnec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6" idx="2"/>
            <a:endCxn id="170" idx="0"/>
          </p:cNvCxnSpPr>
          <p:nvPr/>
        </p:nvCxnSpPr>
        <p:spPr>
          <a:xfrm>
            <a:off x="3846240" y="2813040"/>
            <a:ext cx="1080" cy="68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0" idx="2"/>
            <a:endCxn id="167" idx="0"/>
          </p:cNvCxnSpPr>
          <p:nvPr/>
        </p:nvCxnSpPr>
        <p:spPr>
          <a:xfrm>
            <a:off x="3846240" y="3787560"/>
            <a:ext cx="1080" cy="68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4:34:42Z</dcterms:created>
  <dc:creator>Service Informatique</dc:creator>
  <dc:description/>
  <dc:language>en-US</dc:language>
  <cp:lastModifiedBy>mabizoua</cp:lastModifiedBy>
  <cp:lastPrinted>1999-12-15T10:11:28Z</cp:lastPrinted>
  <dcterms:modified xsi:type="dcterms:W3CDTF">2004-10-27T12:40:15Z</dcterms:modified>
  <cp:revision>16</cp:revision>
  <dc:subject/>
  <dc:title>Cm design docu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lal.in2p3.fr/~arnault</vt:lpwstr>
  </property>
  <property fmtid="{D5CDD505-2E9C-101B-9397-08002B2CF9AE}" pid="9" name="LinkColor">
    <vt:r8>16711782</vt:r8>
  </property>
  <property fmtid="{D5CDD505-2E9C-101B-9397-08002B2CF9AE}" pid="10" name="MailAddress">
    <vt:lpwstr>arnault@lal.in2p3.fr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H:\documents\virgo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